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6F6-0D57-4110-A6D8-48695AC8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2D2-7BEF-4694-8314-A49897AE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862-D73B-4B6B-8BDD-41E07FE6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98A-2060-484B-8F96-50C5DB27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DD92-75DB-4D6F-9F68-0EDA8213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2951-9DF1-4056-9E1A-73E4F94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4B6C-0F47-4B8E-A5DF-20A404EC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0EDB-B179-4158-BE24-CBDDEB8F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DFBC-B208-4EB6-A3E2-5105FA45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389B-DA47-48C2-AEE6-ADE12F8F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C091-D0D0-4B4D-AA80-81B9FDA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997-03F9-461C-8E2E-D1062659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E9CF-6964-4C59-A41F-537AB39D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CAE4-3128-454B-926E-D4D4CDA2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BB48-A5A6-42E8-8C3C-0F728048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5F3A-DC56-473C-9E85-642BC68B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7044-0224-4EB7-AAB0-7E6BAF1D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C97-855A-4812-9D0A-FD56919C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A6F-A35F-49F6-AC14-E18BF942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AA8-67CD-49CA-959B-91A1E2F7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AEC-6FFE-4FF7-A46A-FA223AC4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087-2E52-452A-B8F1-4787DBF8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B2F-4CB8-40A7-95DA-5E1319B5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8E0-C740-49D8-BA03-B7F7ACB6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A1F1-7C78-4F20-97A9-D836593DF8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214200" y="1357200"/>
            <a:ext cx="8747280" cy="5267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3357720" y="642960"/>
            <a:ext cx="257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AMA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logofeup1"/>
          <p:cNvPicPr/>
          <p:nvPr/>
        </p:nvPicPr>
        <p:blipFill>
          <a:blip r:embed="rId2">
            <a:alphaModFix amt="0"/>
          </a:blip>
          <a:srcRect l="6299" t="2941" r="6299" b="2941"/>
          <a:stretch/>
        </p:blipFill>
        <p:spPr>
          <a:xfrm>
            <a:off x="285840" y="50004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génio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71840" y="649296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utonomous Agents and Multiag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ook Antiqua"/>
              </a:rPr>
              <a:t>Doctoral Program 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amas0708.html" TargetMode="External"/><Relationship Id="rId2" Type="http://schemas.openxmlformats.org/officeDocument/2006/relationships/hyperlink" Target="file:///aamas0708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286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ugénio Oliveira FE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ui Mendes 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orge Simão F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143000" y="1785960"/>
            <a:ext cx="7429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MULTI- A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gent concept extended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olutionary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omic Sans MS"/>
              </a:rPr>
              <a:t>Multi-Agent Systems with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warm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Computational entity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ituat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n the environment and displaying a degree of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autonomy , reactivity and pro-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webpage cou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AAMAS_07_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man-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2"/>
          <p:cNvSpPr/>
          <p:nvPr/>
        </p:nvSpPr>
        <p:spPr>
          <a:xfrm rot="20385000">
            <a:off x="4929120" y="3499920"/>
            <a:ext cx="3071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software according to the current spread out of processing capabilities into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1071720" y="1857240"/>
            <a:ext cx="72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s are now networ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s a process of inter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willing to ask computers to cope with more sophisticated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ving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ompu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automatic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500" spc="-1" strike="noStrike">
                <a:solidFill>
                  <a:srgbClr val="c00000"/>
                </a:solidFill>
                <a:latin typeface="Comic Sans MS"/>
              </a:rPr>
              <a:t>human-orientation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mers conceptualize and implement software in terms of higher-level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re human-oriented abst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Programs that are User-frie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ubtitle 2"/>
          <p:cNvSpPr/>
          <p:nvPr/>
        </p:nvSpPr>
        <p:spPr>
          <a:xfrm>
            <a:off x="1214280" y="171468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btitle 2" descr=""/>
          <p:cNvPicPr/>
          <p:nvPr/>
        </p:nvPicPr>
        <p:blipFill>
          <a:blip r:embed="rId1"/>
          <a:stretch/>
        </p:blipFill>
        <p:spPr>
          <a:xfrm>
            <a:off x="895320" y="2693880"/>
            <a:ext cx="747396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Subtitle 2"/>
          <p:cNvSpPr/>
          <p:nvPr/>
        </p:nvSpPr>
        <p:spPr>
          <a:xfrm>
            <a:off x="114300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Progress on Software Paradig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dependently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in a way that represents our best interests while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teracting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with other humans or system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2"/>
          <p:cNvSpPr/>
          <p:nvPr/>
        </p:nvSpPr>
        <p:spPr>
          <a:xfrm>
            <a:off x="1152360" y="136692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ents, wha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2"/>
          <p:cNvSpPr/>
          <p:nvPr/>
        </p:nvSpPr>
        <p:spPr>
          <a:xfrm rot="20775600">
            <a:off x="2254320" y="531648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Autonomy + Pro-activity + Inter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715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Global Computing needs, lead us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Multi-Agent Syste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Multi-ag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stem is one that consists of a number of agents, which interact with one-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per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rdin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negoti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36:40Z</dcterms:created>
  <dc:creator> </dc:creator>
  <dc:description/>
  <dc:language>en-US</dc:language>
  <cp:lastModifiedBy>Manuel Bernardo Barbosa</cp:lastModifiedBy>
  <dcterms:modified xsi:type="dcterms:W3CDTF">2007-10-08T09:43:52Z</dcterms:modified>
  <cp:revision>6</cp:revision>
  <dc:subject/>
  <dc:title>Slide 1</dc:title>
</cp:coreProperties>
</file>