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E250-7447-4659-A21C-3D05108DD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E64B-6837-4E4E-AC7A-424A3100D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936C-4A9B-4E0D-AC63-86548B5D9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CE20-C5ED-450C-8E43-85DB6580A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5BD7-984A-49BA-86A5-352A75B2F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7803-9CF8-4FF2-A016-E7B46BC57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3574-2A59-4456-9CC3-CCF3C06BE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69FB-4B19-4968-A956-C80C303C9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A83A-8E2C-4B0B-97F6-0064D2C04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3209-4584-46BA-BAEA-E7C43EEAC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0962-016C-453A-9B5F-C4F23185D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ECF8-A765-4A41-B84F-2CBAB3F2E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AP-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5790960" y="61718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GC/ 2007-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3505320" y="6171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87129-A222-41F4-82D1-DE4D46E86A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114800"/>
            <a:ext cx="9140760" cy="2590920"/>
            <a:chOff x="3240" y="411480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11480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745240"/>
              <a:ext cx="1256760" cy="827280"/>
              <a:chOff x="5600880" y="574524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589608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594360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599436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03252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07392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74524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46776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04836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79276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75496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11532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612040"/>
              <a:ext cx="2581200" cy="1084320"/>
              <a:chOff x="2819520" y="561204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09300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13116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16428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19308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20568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23916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28668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35184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591516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596268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592452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26760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69772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596448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80248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61204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32484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67864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181840"/>
              <a:ext cx="2144880" cy="1303200"/>
              <a:chOff x="6553080" y="518184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24844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19120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18184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20892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31368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64840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60088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48640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41980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39136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49612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57532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61024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64192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68656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71824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76576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648320"/>
              <a:ext cx="674640" cy="409680"/>
              <a:chOff x="8381880" y="464832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490536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64832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71492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00076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67676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67676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70232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745160"/>
                <a:ext cx="360360" cy="209520"/>
                <a:chOff x="8542440" y="474516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74516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76748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78332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80852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228240" y="556272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Alberto Proença </a:t>
            </a:r>
            <a:r>
              <a:rPr b="0" i="1" lang="en-GB" sz="1600" spc="-1" strike="noStrike">
                <a:solidFill>
                  <a:srgbClr val="ffffff"/>
                </a:solidFill>
                <a:latin typeface="Times New Roman"/>
              </a:rPr>
              <a:t>aproenca@di.uminho.pt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,  António Pina </a:t>
            </a:r>
            <a:r>
              <a:rPr b="0" i="1" lang="en-GB" sz="1600" spc="-1" strike="noStrike">
                <a:solidFill>
                  <a:srgbClr val="ffffff"/>
                </a:solidFill>
                <a:latin typeface="Times New Roman"/>
              </a:rPr>
              <a:t>pina@di.uminho.pt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,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Inês Dutra </a:t>
            </a:r>
            <a:r>
              <a:rPr b="0" i="1" lang="en-GB" sz="1600" spc="-1" strike="noStrike">
                <a:solidFill>
                  <a:srgbClr val="ffffff"/>
                </a:solidFill>
                <a:latin typeface="Times New Roman"/>
              </a:rPr>
              <a:t>ines@dcc.fc.up.pt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, João Sobral </a:t>
            </a:r>
            <a:r>
              <a:rPr b="0" i="1" lang="en-GB" sz="1600" spc="-1" strike="noStrike">
                <a:solidFill>
                  <a:srgbClr val="ffffff"/>
                </a:solidFill>
                <a:latin typeface="Times New Roman"/>
              </a:rPr>
              <a:t>jls@di.uminho.pt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, Jorge Barbosa </a:t>
            </a:r>
            <a:r>
              <a:rPr b="0" i="1" lang="en-GB" sz="1600" spc="-1" strike="noStrike">
                <a:solidFill>
                  <a:srgbClr val="ffffff"/>
                </a:solidFill>
                <a:latin typeface="Times New Roman"/>
              </a:rPr>
              <a:t>jbarbosa@fe.up.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1294920" y="22860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ev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Paradig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609480"/>
            <a:ext cx="822960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Cluster and Grid Computing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MAP-i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47A2DAF0-D011-4726-B207-F8C789FFA33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dienc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ents interested in the area of parallel and distributed comput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ganiza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allel and Distributed Programming Mod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uster Compu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id Compu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2214-E87C-4253-84F4-E7436E80E9C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6A468D-93B3-4640-95C6-951CB58C0D1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ccecff"/>
                </a:solidFill>
                <a:latin typeface="Arial"/>
              </a:rPr>
              <a:t>Relevan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arge number of scientific even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rid Computing Confe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ference on Cluster and Grid Compu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ference on Middleware for Grid Compu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ublications with high impact ra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ournal of Grid Compu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ournal of High Performance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ournal of Parallel and Distributed Compu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EEE Transactions on Distributed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ocial and economic impact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edicine, Biology, Physics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ojects: EGEE, TeraGrid, InterGrid, InGrid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E43B-2209-4610-AC4E-32F002435E8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6EBCF4-2237-4C2A-836A-EC0828ED8C5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nten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 I: PDP Mod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allel Programming models: 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shared and distributed memory, multithreading, programming for multi-co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allel application development: 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design phases, common parallel patterns, performance metrics and profiling, optimization techniques, mapping and scheduling, state-of-the-art on parallel and distributed systems and applic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 II: Cluster Compu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uster planning: 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Architecture and Cluster Software, Design Decisions, Network Hardware, Network Software, Protocols, Distributed File Systems, Virtualization technologies, Benchmar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 III: Grid Compu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onents: 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Operations Infrastructure, Middleware and Application, Virtual Organization management, Resource Discovery and Info Services, Data Access Integration and Management, Web Services, Grid Port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47C7-111D-4620-8001-B83324D920B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07C889-67F5-4231-9C51-E93C7903ACA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Paradig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51920" y="1828800"/>
            <a:ext cx="3429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3880" indent="-3538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rt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3880" indent="-3538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mmun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3880" indent="-3538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ranula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3880" indent="-3538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app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3632040" y="990720"/>
            <a:ext cx="5435640" cy="541008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5405760" y="914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548680" y="2246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634360" y="3443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945400" y="48769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A469-ACEF-4F2A-8775-02100EB65CF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BAC111-1DC3-41B9-BE75-D3F9E53C75F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ccecff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familiar with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allel programming mod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ment  of parallel application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formance issues, scheduling, etc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conversant with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fundamental components of Cluster and Grid environments, such as: authentication, authorization, resource discovery and resource acces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otential of e-infrastructur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able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Cluster and Grid environments for basic and advanced job submission, and distributed data management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observant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id achievement worldwide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merging Grid application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w research opportuni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2133-73E8-4E7C-BF3A-41006FB89FA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F045DA-488A-419A-A6C7-EEF04B57D17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ccecff"/>
                </a:solidFill>
                <a:latin typeface="Arial"/>
              </a:rPr>
              <a:t>EGEE-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238880" cy="4640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BB76-C785-47D9-8397-89082F0CACE1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52E9A5-1059-40D0-8607-B86DA0479A0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ccecff"/>
                </a:solidFill>
                <a:latin typeface="Arial"/>
              </a:rPr>
              <a:t>Real Time Monito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2765520" y="5249880"/>
            <a:ext cx="790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ridportal.hep.ph.ic.ac.uk/rtm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C79E-FCB0-49AD-A56C-FAAA05C6788A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54E9EB-3415-40FD-932E-B3C7028102B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ccecff"/>
                </a:solidFill>
                <a:latin typeface="Arial"/>
              </a:rPr>
              <a:t>Timetabl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380880" y="1533600"/>
            <a:ext cx="8382240" cy="44863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990720" y="5127480"/>
            <a:ext cx="533160" cy="554400"/>
          </a:xfrm>
          <a:prstGeom prst="rect">
            <a:avLst/>
          </a:prstGeom>
          <a:solidFill>
            <a:srgbClr val="af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Arial"/>
              </a:rPr>
              <a:t>CG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914400" y="5410080"/>
          <a:ext cx="160020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5410080"/>
                    <a:ext cx="160020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1066680" y="6033960"/>
            <a:ext cx="1295640" cy="366840"/>
          </a:xfrm>
          <a:prstGeom prst="rect">
            <a:avLst/>
          </a:prstGeom>
          <a:solidFill>
            <a:srgbClr val="008a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22F5-8B6F-4C90-9616-B6F7320C655A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98575C-7C41-4A02-B0BB-435E5E0E3F4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1T21:55:25Z</dcterms:created>
  <dc:creator>FCUP</dc:creator>
  <dc:description/>
  <dc:language>en-US</dc:language>
  <cp:lastModifiedBy>FCUP</cp:lastModifiedBy>
  <dcterms:modified xsi:type="dcterms:W3CDTF">2007-10-07T22:04:14Z</dcterms:modified>
  <cp:revision>72</cp:revision>
  <dc:subject/>
  <dc:title>Slide 1</dc:title>
</cp:coreProperties>
</file>