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439B-5076-46F9-A9F0-FDD7A2325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BC8B-A092-4EE8-B4E2-27D3D8D8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4DA3-96E1-4B18-8270-0D49C10F2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3241-ABBC-4AF1-B638-82565CC4C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79C9E-1FE3-4C6C-984E-28CB8BF79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06DE-2FA0-4328-A13F-03EAE907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F4C0-8C0A-4DA4-BA84-75E20FEC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21DA-0E4D-4CF6-8D73-0202D189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F114-1DB2-4983-BE56-6E2E27F3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96929-79C1-40F2-94EB-02B6EA80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68D5-F52A-4E84-A2C2-279D2AFA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6A1E-AF81-4ABC-BDBD-B71F9956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5C58-3AAD-4649-9E34-3999D7A5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6CB5-D0D8-46A3-8765-63EF6522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B6AFD-85E9-4EC5-8742-B3C60A8E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3A34-61AE-4537-854A-C2D1CEFCD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1054-1D08-47C6-A645-B491167A9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FB82-A172-4B1E-8B3C-064C352F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F131-B2F7-4981-8358-DEEC606C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BCB2-4FFD-46A4-95BF-861A453E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4068-A10D-4205-8E68-77979F0C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110F-CA96-4691-A1B2-9F190C75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34CE-A87B-4EEC-A159-ECC68D9C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2C68-80E6-4C3B-83A2-467D34E9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AF99-DCA7-44BB-A724-7AA38141105D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1343-F345-4D04-8319-B843261819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26E0-6E8F-40C6-A726-57A5EDB60F2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1194-E30A-4472-B959-2DE103025F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aproenca@di.uminho.pt" TargetMode="External"/><Relationship Id="rId3" Type="http://schemas.openxmlformats.org/officeDocument/2006/relationships/image" Target="../media/image1.png"/><Relationship Id="rId4" Type="http://schemas.openxmlformats.org/officeDocument/2006/relationships/hyperlink" Target="mailto:pja@" TargetMode="External"/><Relationship Id="rId5" Type="http://schemas.openxmlformats.org/officeDocument/2006/relationships/image" Target="../media/image1.png"/><Relationship Id="rId6" Type="http://schemas.openxmlformats.org/officeDocument/2006/relationships/hyperlink" Target="mailto:pbrazdil@liacc.up.pt" TargetMode="External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hyperlink" Target="mailto:amjorge@" TargetMode="External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80520" y="281952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Relev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ffff"/>
                </a:solidFill>
                <a:latin typeface="Arial"/>
              </a:rPr>
              <a:t>MAP-i</a:t>
            </a:r>
            <a:br>
              <a:rPr sz="4000"/>
            </a:br>
            <a:r>
              <a:rPr b="0" lang="pt-PT" sz="4000" spc="-1" strike="noStrike">
                <a:solidFill>
                  <a:srgbClr val="ffffff"/>
                </a:solidFill>
                <a:latin typeface="Arial"/>
              </a:rPr>
              <a:t>Data-Mining &amp; Logic Programm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BD2A2-75E5-45EE-977A-538173B2EB5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8EFA080-7431-4514-895A-3172444C10C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Calendar and tim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Weekly Lectures (3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4 Projects (One Per Modu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DCAD-2123-4018-853D-7D6AA1D3188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C41C7B-26DC-4C61-888C-CFE6832D8A9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Objectiv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Learn key concepts in machine learning/data mining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ey concepts in LP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derstand IL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sue Research 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ced Data M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Relational 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2A19-8802-42C9-B096-446F97FEE65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AB26BF-E6DA-457A-9067-838C436430D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Motiva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ckly Expanding Area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on of Logic, Statistical and Machine Learning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Real Life Applic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6CE4-CDF1-4840-A451-0DDF8428F0F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0D6B8F-3947-430F-991D-0F41EE0A6B7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ioInformatic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371600" y="1079640"/>
            <a:ext cx="6019920" cy="577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D73E-1AAD-4139-9615-CAA52329E502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0C9039-A8B0-4A17-95FE-7DE2D6240A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ocial Network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1743120"/>
            <a:ext cx="8286840" cy="511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11F0-DF20-4B5E-A143-09F6BE6E33CD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815A88-E150-48D1-B93E-B0A4C6BABB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Data Stream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80880" y="1557360"/>
            <a:ext cx="8534520" cy="530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BF38-DE98-4336-ACF7-1B05C0C48F18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3E4E7E-0061-4658-8C5E-0045049E42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rganiza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Intro to Data M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Intro to Logic Program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Putting it Together: IL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Moving Forwar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ffffff"/>
              </a:buClr>
              <a:buSzPct val="65000"/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Advanced Data-Mining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ffffff"/>
              </a:buClr>
              <a:buSzPct val="65000"/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Statistical Relational 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7902-526E-44FE-84D9-C5A03A332CD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B26D74-1BEC-4755-99AC-BE379EA86D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Program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Data Mining: Intro, Classification, Regression, Multiple Models, Frequent Patterns, Methodolog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Logic Programming: Computational Model, Implementation, Tab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Inductive Logic Programming: Fundaments, Examples,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Advances in Data Mining, Mining Streams, Logic and Statistical Represe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3E23-9549-4873-B67A-11062C8B415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99697E-9CCD-4C28-A29A-005CDAE70E4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8290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cc00"/>
                </a:solidFill>
                <a:latin typeface="Arial Black"/>
              </a:rPr>
              <a:t>Team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icardo Rocha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ricroc</a:t>
            </a:r>
            <a:r>
              <a:rPr b="0" lang="en-GB" sz="2400" spc="-1" strike="noStrike" u="sng">
                <a:solidFill>
                  <a:srgbClr val="f98d43"/>
                </a:solidFill>
                <a:uFillTx/>
                <a:latin typeface="Arial"/>
                <a:hlinkClick r:id="rId2"/>
              </a:rPr>
              <a:t>@dcc.fc.up.p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ulo Azevedo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 u="sng">
                <a:solidFill>
                  <a:srgbClr val="f98d43"/>
                </a:solidFill>
                <a:uFillTx/>
                <a:latin typeface="Arial"/>
                <a:hlinkClick r:id="rId4"/>
              </a:rPr>
              <a:t>pja@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di.uminho.p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vel Brazdil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 u="sng">
                <a:solidFill>
                  <a:srgbClr val="f98d43"/>
                </a:solidFill>
                <a:uFillTx/>
                <a:latin typeface="Arial"/>
                <a:hlinkClick r:id="rId6"/>
              </a:rPr>
              <a:t>pbrazdil@liacc.up.p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ui Camacho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jls@di.uminho.p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lípio Jorg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 u="sng">
                <a:solidFill>
                  <a:srgbClr val="f98d43"/>
                </a:solidFill>
                <a:uFillTx/>
                <a:latin typeface="Arial"/>
                <a:hlinkClick r:id="rId9"/>
              </a:rPr>
              <a:t>amjorge@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fep.up.p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ítor Santos Costa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vsc@dcc.fc..up.p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15AD-C848-4760-AFFF-91458ACEE30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EA7B3F-AB89-4019-AF90-D2ED62D3D3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1T21:55:25Z</dcterms:created>
  <dc:creator>FCUP</dc:creator>
  <dc:description/>
  <dc:language>en-US</dc:language>
  <cp:lastModifiedBy>Your User Name</cp:lastModifiedBy>
  <dcterms:modified xsi:type="dcterms:W3CDTF">2007-10-08T09:22:33Z</dcterms:modified>
  <cp:revision>53</cp:revision>
  <dc:subject/>
  <dc:title>Slide 1</dc:title>
</cp:coreProperties>
</file>