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0176F-180C-40E3-87A7-E7520AD47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808A-5ACB-4538-9025-2FA406D06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0BC0-818C-4D70-8A75-46DA775B7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272A-5A99-4CEB-A7A1-4A14D9D54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226C-48EF-4CBF-8F97-358C63CAE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053E-A8CD-4D1B-948B-E5899D086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B3A7-A9D9-4122-AAA2-06C63310D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91FC-8491-4CD2-BFFD-0C1621FFF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A5CC-A7FB-4DEF-93B8-5029B5C5B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CE27-7C99-4CE4-8A6E-C7CD0497A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8F19-EF35-4878-A47A-8BCA83859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F0C7-9A9D-4D00-BC71-EABB9BB60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676F-F0B0-4D44-A09A-B0989246B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2666880" cy="3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 rot="16200000">
            <a:off x="-3191040" y="3190680"/>
            <a:ext cx="685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Model-driven</a:t>
            </a:r>
            <a:br>
              <a:rPr sz="4400"/>
            </a:b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Software 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João M. Fernand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niversidade do Minho – Portug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15920"/>
            <a:ext cx="892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del-driven Software Engineering -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6248520"/>
            <a:ext cx="3174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l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cost-effective use of something in place of something else for some purpo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allows us to use something that is simpler, safer or cheaper than re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epresents reality for the given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del is an abstraction of reality in the sense that it cannot represent all its aspe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allows the world to be dealt in a simplified manner, avoiding the complexity, danger and irreversibility of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5055-C7B0-4E52-BCE0-75A981FC447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DSE is the application of model-driven engineering to software engineer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sists of systematically using models as  primary engineering artefacts to develop softw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 engineering by nature possesses both a scientific and a technological asp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ducation, a good balance between these two aspects should always be pursu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various software modelling techniques is a good way to achieve this 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86E1-D862-43DC-B909-378E679D8F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need for describing software systems with models, as a way to abstract from the system’s complexity and to reason about their properti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early differentiate from behavioural/dynamic and informational/structural model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the expressiveness and limitations of different modelling languages and to describe the type of system views they better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B939-4505-4B61-BAB8-2279A1EE03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models for the activities associated with the development of large softwar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reate, analyze, validate, verify and transform sets of  models with the adequate detail for the software system under development, based on a multiple view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scribe/implement model transformations for automating the software process, namely to generate final code from the mod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5E4B-F808-45BE-842B-40B6EDB74E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I, UMin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MF - J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ão M. Fernande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ftware engineering;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havioural modelling; software proces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SB - Luís S. Barbos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formal methods; software components;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FC - José C. Campo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uman-computer interaction; software engineer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 - Alcino Cunh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; functional programm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UP, U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PF - João Pascoal Fari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requirements engineering; model-driven develop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P - Ana C. Paiv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GUI test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4D2C-0AD8-4F81-935C-BBB86E9AEC9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 Principles of MD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M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2. Models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4 lessons: JMF-1, LSB-2,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. Model Qual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4. Model V&amp;V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JFC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5. Model Transfor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 lessons: JMF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6. Model-based Testing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ACP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. Re-engine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F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8. Case-study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mmon to all les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10C9-EB9A-4178-B71F-C561B36179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rse credited by C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written assignments (e.g., a research paper analysis, models for the case study) proposed on the end of each course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an individual survey monograp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Othe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FFE0-F6FF-4297-823B-E5E43EEBE58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ão M. Fernandes</cp:lastModifiedBy>
  <dcterms:modified xsi:type="dcterms:W3CDTF">2007-10-08T09:42:04Z</dcterms:modified>
  <cp:revision>68</cp:revision>
  <dc:subject/>
  <dc:title>Model Transformations with UML and CPN models</dc:title>
</cp:coreProperties>
</file>