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88B-EF21-4ED8-9314-8A2CA3A8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1FD-C675-4ADE-9068-4371B657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AB0-F71B-4835-88DF-4264B94F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E9F-8054-4705-AD8E-B4C64CEB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1B00-E721-4B16-9923-9E6F2980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2119-42C7-46EA-824C-EA766351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51A9-2641-49F6-BB4B-0049DF32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B20A-A911-4AF5-BCCA-0C5506A5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698D-A2DF-4CF7-A49C-82D41578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65B9-926F-4717-8F3E-DEBCBD16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FE1A-E57A-4F9D-A3C4-90E5DD98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7B3-EF28-4573-AA3F-15F28461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10DC-3504-4993-9657-8D365742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E754-B4FE-42A2-B753-63949753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D9C6-3D57-46EC-88F0-C806FDAD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A7CD-6194-4172-9282-11EFE67F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176D-244A-4DAA-9D8F-6870843A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CF4-D404-45C6-B710-9F42439F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26F-56A5-43CA-88C8-24D37F0E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1FD-B50C-4F7D-B6F6-508ECAF3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89B-B227-4711-8740-E9D11F18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481-FAFB-4D41-A0E2-B6EF6467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CD45-EF2A-49D8-89BA-F03B5BBF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149-0027-4B46-B316-4C52A8BB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5CE4-2DD8-4D35-8BBD-ABF19B1BA7F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1A7F-9564-49C4-A9DC-30D99788A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3DD0-2318-4F89-A4BC-C9894B30E8F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FA7B-337B-4DC9-9C7C-2C2CAEBEF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proenca@di.uminho.pt" TargetMode="External"/><Relationship Id="rId3" Type="http://schemas.openxmlformats.org/officeDocument/2006/relationships/image" Target="../media/image1.png"/><Relationship Id="rId4" Type="http://schemas.openxmlformats.org/officeDocument/2006/relationships/hyperlink" Target="mailto:pja@" TargetMode="External"/><Relationship Id="rId5" Type="http://schemas.openxmlformats.org/officeDocument/2006/relationships/image" Target="../media/image1.png"/><Relationship Id="rId6" Type="http://schemas.openxmlformats.org/officeDocument/2006/relationships/hyperlink" Target="mailto:pbrazdil@liacc.up.pt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hyperlink" Target="mailto:amjorge@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80520" y="28195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MAP-i</a:t>
            </a:r>
            <a:br>
              <a:rPr sz="4000"/>
            </a:b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Data-Mining &amp; Logic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524B-6C86-4FA3-8AE4-889733777A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3D80DCA-D083-422B-B0BE-76CE8814E6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Calendar and ti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Weekly Lectures (3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4 Projects (One Per Mod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01F-2C1E-4E43-B143-FB04540855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FF2C3-1D57-4DB0-ACF3-280B428436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Objectiv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Learn key concepts in machine learning/data min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concepts in L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stand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sue Research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Data M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5A5-C032-4244-9DD3-FAA0983066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21FA8-DA40-40B3-9EB3-73D6CECC09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Motiv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ly Expanding Are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on of Logic, Statistical and Machine Learning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Real Life Ap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389-3A7E-4F47-8865-25B9045BEEF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7DA4B-0539-4801-A4F1-47258C7919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ioInformatic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71600" y="1079640"/>
            <a:ext cx="601992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2A1-5BBF-46B0-A6F0-794FF3502F0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E9146-7627-4A98-9EA7-ED8CD8B2EE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cial Network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743120"/>
            <a:ext cx="828684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E39-1AF3-4560-A47E-96F117A37D8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ED295-2974-414B-A1D3-36A374DD72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ata Strea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557360"/>
            <a:ext cx="8534520" cy="53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071-B835-4E12-9E56-68DEFF87D2F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AB396-4FE4-49B5-8A27-9A1A69117A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rganiz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Data M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Logic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utting it Together: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Moving Forwar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dvanced Data-Mining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C64-6A5B-41F1-8224-F30E56B161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B8E43-7C58-4B85-A432-393ED8D772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Progra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ata Mining: Intro, Classification, Regression, Multiple Models, Frequent Patterns, Method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Logic Programming: Computational Model, Implementation, Ta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ductive Logic Programming: Fundaments, Examples,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dvances in Data Mining, Mining Streams, Logic and Statistical Re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F7E-036F-4CB6-8C9D-F18F8CC1E7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FA490-3377-4C20-91D8-671B889B4A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2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cc00"/>
                </a:solidFill>
                <a:latin typeface="Arial Black"/>
              </a:rPr>
              <a:t>Tea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cardo Roch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ricroc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@dcc.f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ulo Azeved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4"/>
              </a:rPr>
              <a:t>pja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vel Brazdi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pbrazdil@liac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i Camach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jls@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ípio Jorg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9"/>
              </a:rPr>
              <a:t>amjorge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fep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ítor Santos Cost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vsc@dcc.fc.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748-3FD8-43C0-8A54-641176CD82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55F4B-C860-4933-B3D9-A969EB1B83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Your User Name</cp:lastModifiedBy>
  <dcterms:modified xsi:type="dcterms:W3CDTF">2007-10-08T09:22:33Z</dcterms:modified>
  <cp:revision>53</cp:revision>
  <dc:subject/>
  <dc:title>Slide 1</dc:title>
</cp:coreProperties>
</file>