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1CF-4288-4994-A576-10A8BCF9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0BF-3900-4CDB-8AC2-AE1947EF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449-4E9D-4CAC-9EAA-19F2CFB3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A24-A613-4F02-A54C-2ABA3E05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469C-3AA0-4F54-AE41-6DD7AA6C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FD66-906C-41D7-81C0-5B3D0929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07D5-E710-44D4-A9DB-831C274A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3E36-437B-4A49-8DA0-36847882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9E13-272A-4441-8562-A1D8A5CA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7B81-535B-4322-B368-60545835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69D9-0778-4D19-BF64-F5BCBAD0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424-55D4-4C5A-A7AB-B1C9CD54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936A-AA68-4EF5-823D-CF4F8061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9CA1-6961-43BA-81F0-FA663A63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42BA-490B-4A3D-BBEF-B4BCC8B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1566-68F9-4351-B5C3-C059D4C2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50AD-781C-453E-A5B9-F23068D4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6AA-21B0-43C4-A85E-096AC4DB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4EF-1039-4D30-BCA7-535558B9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AFE-AEC0-41E4-84D0-751853BF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9EC-E479-4231-B53D-AE028069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DD9-B66F-45F9-AAB0-3F16B43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10B-0733-4D4C-91FA-45C76D8C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44A-A4EA-4B56-8F5E-4EB4685D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81EA-CADB-4937-8E90-D32456B068E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E200-606F-4713-89EC-2E3937506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A698-AB6E-4E7E-A45B-E00B5D0FD78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1610-34A1-49C4-A6B4-41DD6F53B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proenca@di.uminho.p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pja@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pbrazdil@liacc.up.p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mailto:amjorge@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52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MAP-i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Data-Mining &amp; Log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210C-B1A1-4726-993A-AA9ED0F68F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01B0372-7E8B-401B-9D58-9CBECA7F19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alendar and ti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Weekly Lectures (3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4 Projects (One Per 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7D3-0AD8-473E-9006-3120DF7BD8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DA382-DA63-462E-8EC2-250810554A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Learn key concepts in machine learning/data min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concepts in L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Resear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149-EB59-4211-9FCF-37D3604652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80694-1EB2-4168-941E-FC036EB870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ly Expanding Ar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Logic, Statistical and Machine Learn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Real Lif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6E6-5069-4684-9F07-29E14ED624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B5D6D-C8E2-4F3F-87E8-46D84A770A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Informat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1079640"/>
            <a:ext cx="601992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6A8-2FF7-46D4-92C3-5D37FB39379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CB070-4BCA-4A2F-ABCE-510F6B58A9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cial Network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8684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58E-9AB6-47C8-9E68-8EB8BA1E401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E3FA4-ED9E-46D5-A234-2BB7ACAA20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ata Strea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53452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88B-8D9E-4016-AD8D-34B513E0229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2EE7E-40F4-47BA-BCD9-FF0091134E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Data 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Logic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utting it Together: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oving Forwa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dvanced Data-Mining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902-7868-4661-AF7D-BCFD7D8CD7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599F3-E045-4B22-8DBB-9C0039D825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Pro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ta Mining: Intro, Classification, Regression, Multiple Models, Frequent Patterns, Method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Logic Programming: Computational Model, Implementation, T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ductive Logic Programming: Fundaments, Examples,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vances in Data Mining, Mining Streams, Logic and Statistical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1DE-C6AC-4617-964C-BB2A7D3294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C314E-E6A0-447B-9C49-A1EF2091B6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cc00"/>
                </a:solidFill>
                <a:latin typeface="Arial Black"/>
              </a:rPr>
              <a:t>Tea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cardo Roch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icroc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@dcc.f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o Azeved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pja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vel Brazdi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pbrazdil@liac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i Camach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jls@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ípio Jor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amjorge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ep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ítor Santos Cost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vsc@dcc.fc.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3B4-DC78-47D5-B314-80A584E163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125F5-675B-4FCF-852F-BF2CE3725A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Your User Name</cp:lastModifiedBy>
  <dcterms:modified xsi:type="dcterms:W3CDTF">2007-10-08T09:22:33Z</dcterms:modified>
  <cp:revision>53</cp:revision>
  <dc:subject/>
  <dc:title>Slide 1</dc:title>
</cp:coreProperties>
</file>