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7EC-6C2A-4757-A616-45FC1B3E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72F-0C8D-4605-88CB-159C11A4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BE9-93F3-4D22-8A4E-9018D2F8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C72-10F4-48CE-9F5D-8C1E7A97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AA6-F4A1-412E-A16B-9CEDF524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365-BEE3-4F16-8F44-DD65B333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066-DCF7-4DD5-9219-74932684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0C0-00F2-4F66-B07E-1A06E71D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3A2-839C-49CA-85CC-2B7E8A54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7BE-2FE4-4D7E-8354-58EA15CA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CCF-F841-435B-BD6E-F56A8B6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868-A811-483B-8705-C9C45782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P-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57909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GC/ 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35053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10FF-1325-4FD8-9D03-23FA3F050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114800"/>
            <a:ext cx="9140760" cy="2590920"/>
            <a:chOff x="3240" y="411480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11480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745240"/>
              <a:ext cx="1256760" cy="827280"/>
              <a:chOff x="5600880" y="574524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589608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594360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599436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03252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07392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74524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46776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04836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79276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75496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11532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612040"/>
              <a:ext cx="2581200" cy="1084320"/>
              <a:chOff x="2819520" y="561204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09300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13116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16428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19308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20568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23916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28668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35184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591516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596268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592452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26760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69772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596448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80248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61204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32484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67864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181840"/>
              <a:ext cx="2144880" cy="1303200"/>
              <a:chOff x="6553080" y="518184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24844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19120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18184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2089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31368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64840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60088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48640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41980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39136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4961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57532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61024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64192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68656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71824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76576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648320"/>
              <a:ext cx="674640" cy="409680"/>
              <a:chOff x="8381880" y="464832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490536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64832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71492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00076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67676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67676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70232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745160"/>
                <a:ext cx="360360" cy="209520"/>
                <a:chOff x="8542440" y="474516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74516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76748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78332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80852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228240" y="5562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lberto Proenç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aproenc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António Pin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pin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ês Dutr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ines@dcc.fc.up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ão Sobral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ls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rge Barbos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barbosa@fe.up.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uster and Grid Comput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P-i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7A3E48F-F918-4DE6-BF57-795C954A92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terested in the area of parallel and distributed comp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and Distributed Programm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F3F-2EED-45DA-B98E-384212777C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9A2BC-D6E1-4078-B3A5-DF8D3658EC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lev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 number of scientific ev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id Computing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Cluster and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Middleware for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ations with high impact r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High Performanc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Parallel and Distribute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EE Transactions on Distribut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cial and economic impa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cine, Biology, Physic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cts: EGEE, TeraGrid, InterGrid, InGri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0FA-5F5B-4F62-BDE2-04E3A4A2F2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6212D-377D-453E-B2AA-7D743E598C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: PDP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hared and distributed memory, multithreading, programming for multi-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application development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design phases, common parallel patterns, performance metrics and profiling, optimization techniques, mapping and scheduling, state-of-the-art on parallel and distributed systems an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: Cluster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planning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rchitecture and Cluster Software, Design Decisions, Network Hardware, Network Software, Protocols, Distributed File Systems, Virtualization technologies, Bench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I: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perations Infrastructure, Middleware and Application, Virtual Organization management, Resource Discovery and Info Services, Data Access Integration and Management, Web Services, Grid Por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DFF-90B1-4FB8-A2AC-0583CCA238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4A13E-2CE8-49D2-A22A-DB0D1FE797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radig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anul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32040" y="990720"/>
            <a:ext cx="5435640" cy="5410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05760" y="914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48680" y="224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4360" y="3443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5400" y="4876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905-A3E8-4CBB-B0EA-A66396D5A7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B514F-EEF3-43D8-9DA1-3DBDFB51AB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miliar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 of parallel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ssues, scheduling, et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versant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components of Cluster and Grid environments, such as: authentication, authorization, resource discovery and resource acc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tential of e-infrastruct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uster and Grid environments for basic and advanced job submission, and distributed data managemen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bservant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id achievement worldw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ing Grid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esearch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741-EB5B-4CED-BD6D-7DF2BE5671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ADE43-EF14-4071-9993-6BCA733412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EGEE-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3888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455-AF22-4097-98A9-A1BD9BB7F1E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B8AAA-4066-4CCB-B109-FEF6CE1466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al Time Moni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65520" y="5249880"/>
            <a:ext cx="79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ridportal.hep.ph.ic.ac.uk/rt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417-A635-42BF-944B-9F2651BF63B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C8AB0-0860-4D73-A252-0C465FEDDD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33600"/>
            <a:ext cx="8382240" cy="448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127480"/>
            <a:ext cx="533160" cy="5544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G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5410080"/>
          <a:ext cx="16002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410080"/>
                    <a:ext cx="16002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066680" y="6033960"/>
            <a:ext cx="1295640" cy="36684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8EE-B407-4B7C-A42E-1C6379A99B6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3D550-F462-40ED-B655-AAD25B3D3A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FCUP</cp:lastModifiedBy>
  <dcterms:modified xsi:type="dcterms:W3CDTF">2007-10-07T22:04:14Z</dcterms:modified>
  <cp:revision>72</cp:revision>
  <dc:subject/>
  <dc:title>Slide 1</dc:title>
</cp:coreProperties>
</file>