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79DC5-E0AF-4F56-B805-A2B42A7AA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02DA-B78E-4FA5-A506-C056B8305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F214-B2CF-4F52-B962-9F8B405ED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0FFF-BFCF-477F-A13C-BEBC66DC5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391FB-3336-4DC8-B67F-B9F3501E2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517C-8AC4-47EE-A258-D5FD5AB56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A912-F1EF-49D1-B8BA-D3A9BB22B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AA1E-C962-4B55-9F5D-6ECFD0FC8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6417-739C-40D5-9742-1A56FE85B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17CE-0710-4AB9-815A-86C70FF71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677C-F774-4FD4-8E81-5CB0505C5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12EE-8B60-4EB6-8358-CAA761697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320" y="205920"/>
            <a:ext cx="8928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5F51-A335-48D4-BC5B-9DEC0225A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6464160"/>
            <a:ext cx="2666880" cy="33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 rot="16200000">
            <a:off x="-3191040" y="3190680"/>
            <a:ext cx="685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Model-driven</a:t>
            </a:r>
            <a:br>
              <a:rPr sz="4400"/>
            </a:b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Software Enginee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João M. Fernand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Universidade do Minho – Portug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82680" cy="996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000" y="115920"/>
            <a:ext cx="892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Model-driven Software Engineering -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6248520"/>
            <a:ext cx="317484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l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the cost-effective use of something in place of something else for some purpo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allows us to use something that is simpler, safer or cheaper than re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epresents reality for the given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del is an abstraction of reality in the sense that it cannot represent all its aspec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allows the world to be dealt in a simplified manner, avoiding the complexity, danger and irreversibility of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D4AE-D3AC-4506-AA35-C620E146143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DSE is the application of model-driven engineering to software engineer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sists of systematically using models as  primary engineering artefacts to develop softw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ftware engineering by nature possesses both a scientific and a technological asp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education, a good balance between these two aspects should always be pursu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ing various software modelling techniques is a good way to achieve this a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7535-B2EB-4716-AE13-EDE66753D9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xplain the need for describing software systems with models, as a way to abstract from the system’s complexity and to reason about their properti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early differentiate from behavioural/dynamic and informational/structural models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dentify the expressiveness and limitations of different modelling languages and to describe the type of system views they better 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EB12-B36E-498C-88EF-180A3BF0975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models for the activities associated with the development of large software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reate, analyze, validate, verify and transform sets of  models with the adequate detail for the software system under development, based on a multiple view appro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describe/implement model transformations for automating the software process, namely to generate final code from the mode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4581-C258-44FD-A8D1-96E498EBB7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DI, UMin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MF - J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ão M. Fernande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ftware engineering;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havioural modelling; software proces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SB - Luís S. Barbos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formal methods; software components;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FC - José C. Campo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uman-computer interaction; software engineer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C - Alcino Cunh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; functional programming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FEUP, UPo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PF - João Pascoal Fari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requirements engineering; model-driven developmen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P - Ana C. Paiv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GUI test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4E4A-F44A-49BE-A1B8-6C1C657DE4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. Principles of MDS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M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2. Models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4 lessons: JMF-1, LSB-2,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. Model Qual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4. Model V&amp;V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JFC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5. Model Transform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2 lessons: JMF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6. Model-based Testing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ACP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7. Re-engineer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F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8. Case-study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common to all les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1864-1324-43AF-AE6D-D3BD1466EDE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urse credited by C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ssess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written assignments (e.g., a research paper analysis, models for the case study) proposed on the end of each course un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an individual survey monograp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Other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14A4B-A2FE-461A-A006-949D024712A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ão M. Fernandes</cp:lastModifiedBy>
  <dcterms:modified xsi:type="dcterms:W3CDTF">2007-10-08T09:42:04Z</dcterms:modified>
  <cp:revision>68</cp:revision>
  <dc:subject/>
  <dc:title>Model Transformations with UML and CPN models</dc:title>
</cp:coreProperties>
</file>