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34D-6CFA-4BF1-BBB4-70614CA5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1E58-8DD3-4940-9D59-F71B7E1B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29A9-B460-4564-B44C-F2BD50AB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4AA9-10FB-49DC-8EBF-ECA970F9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52FF-072E-47DA-B48D-ED7C6A37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DCB0-B696-4F38-9864-E454CAA7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7F0-0C4B-4D67-9B37-4A3A0AF4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F00F-9DB3-45A9-A9BC-ECD49360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C9F-9A28-487D-9D52-CE55EBDA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8986-27D9-4882-AF4B-B5E77C05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608A-F5B9-4BD1-AC05-44037FCD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3FF8-6458-4EE8-B619-B5CB4DF2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P-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57909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GC/ 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35053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DD9E-127E-4009-8B00-28BB0A30D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114800"/>
            <a:ext cx="9140760" cy="2590920"/>
            <a:chOff x="3240" y="411480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11480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745240"/>
              <a:ext cx="1256760" cy="827280"/>
              <a:chOff x="5600880" y="574524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589608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594360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599436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03252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07392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74524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46776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04836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79276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75496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11532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612040"/>
              <a:ext cx="2581200" cy="1084320"/>
              <a:chOff x="2819520" y="561204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09300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13116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16428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19308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20568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23916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28668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35184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591516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596268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592452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26760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69772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596448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80248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61204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32484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67864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181840"/>
              <a:ext cx="2144880" cy="1303200"/>
              <a:chOff x="6553080" y="518184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24844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19120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18184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20892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31368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64840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60088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48640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41980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39136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49612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57532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61024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64192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68656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71824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76576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648320"/>
              <a:ext cx="674640" cy="409680"/>
              <a:chOff x="8381880" y="464832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490536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64832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71492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00076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67676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67676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70232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745160"/>
                <a:ext cx="360360" cy="209520"/>
                <a:chOff x="8542440" y="474516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74516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76748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78332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80852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228240" y="5562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Alberto Proenç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aproenca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 António Pin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pina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Inês Dutr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ines@dcc.fc.up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João Sobral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jls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Jorge Barbos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jbarbosa@fe.up.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294920" y="22860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aradig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6094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uster and Grid Computing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MAP-i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76AD300-3AB7-46BF-B4B7-8F717D7FFC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e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interested in the area of parallel and distributed compu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 and Distributed Programming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ster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id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F48-BE08-4C4A-9937-87DA559BBB1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AD2D0-B651-4F6E-9238-E3889BBB56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Relev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rge number of scientific ev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id Computing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ference on Cluster and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ference on Middleware for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blications with high impact ra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High Performanc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Parallel and Distribute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EE Transactions on Distribute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cial and economic impact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cine, Biology, Physic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jects: EGEE, TeraGrid, InterGrid, InGri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865-4895-4F85-B8F5-A8DBD08C386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FD913-5416-4CF1-8FDF-04EA12C6CB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: PDP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Programming models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hared and distributed memory, multithreading, programming for multi-c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application development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design phases, common parallel patterns, performance metrics and profiling, optimization techniques, mapping and scheduling, state-of-the-art on parallel and distributed systems and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I: Cluster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uster planning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rchitecture and Cluster Software, Design Decisions, Network Hardware, Network Software, Protocols, Distributed File Systems, Virtualization technologies, Benchma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II: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s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Operations Infrastructure, Middleware and Application, Virtual Organization management, Resource Discovery and Info Services, Data Access Integration and Management, Web Services, Grid Port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A7F-B591-48E1-AD69-5D32554734C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83665-8FF1-4AB2-9408-2E74A736C5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aradig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anula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p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632040" y="990720"/>
            <a:ext cx="5435640" cy="54100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405760" y="914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48680" y="2246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4360" y="3443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5400" y="48769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6A0-2EEF-4038-8AED-EDA6C4C2B8A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66C04-F8AD-4555-AC2C-62F7CA47F8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amiliar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programming mod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 of parallel applic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issues, scheduling, etc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conversant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components of Cluster and Grid environments, such as: authentication, authorization, resource discovery and resource acces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tential of e-infrastruct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Cluster and Grid environments for basic and advanced job submission, and distributed data management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observant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id achievement worldwid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ing Grid applic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research opportun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83A-8C72-4FA1-B786-250F6BE20C2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A1D44-4394-4E87-A437-8BCDC3BDEC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EGEE-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238880" cy="464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4311-3FB3-47D9-B1A5-2B89B1AED67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D87AC-7958-487C-B60B-648812015D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Real Time Moni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765520" y="5249880"/>
            <a:ext cx="79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ridportal.hep.ph.ic.ac.uk/rt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45D-6BDD-494F-936D-DB1A43CC7C2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BA495-65F7-49D9-ACF5-93521A1B75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0880" y="1533600"/>
            <a:ext cx="8382240" cy="4486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0720" y="5127480"/>
            <a:ext cx="533160" cy="554400"/>
          </a:xfrm>
          <a:prstGeom prst="rect">
            <a:avLst/>
          </a:prstGeom>
          <a:solidFill>
            <a:srgbClr val="af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CG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14400" y="5410080"/>
          <a:ext cx="16002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5410080"/>
                    <a:ext cx="16002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066680" y="6033960"/>
            <a:ext cx="1295640" cy="366840"/>
          </a:xfrm>
          <a:prstGeom prst="rect">
            <a:avLst/>
          </a:prstGeom>
          <a:solidFill>
            <a:srgbClr val="008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E43-F2B6-4A69-A0E9-DB807AAF627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B3708-2BE2-44E2-B33A-8BE5914E23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21:55:25Z</dcterms:created>
  <dc:creator>FCUP</dc:creator>
  <dc:description/>
  <dc:language>en-US</dc:language>
  <cp:lastModifiedBy>FCUP</cp:lastModifiedBy>
  <dcterms:modified xsi:type="dcterms:W3CDTF">2007-10-07T22:04:14Z</dcterms:modified>
  <cp:revision>72</cp:revision>
  <dc:subject/>
  <dc:title>Slide 1</dc:title>
</cp:coreProperties>
</file>