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79C-827E-41BB-976B-E5858DD3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2DE-D03E-49D4-9FA5-CD046335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654-A3F0-48F9-8675-E7BE1D37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F05-E501-49B4-939D-DCCDC308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3920-1E43-4FEF-B665-CBD91355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1B14-0BB3-445A-881F-CE80B86A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2788-D8BB-4446-9A41-9F3C12F4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70FF-3474-4097-8176-39577719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B16B-AEDE-4EDA-9D1D-F218AA98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3267-481E-4F55-A1DA-4D5DC53F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C069-4A46-48F6-944D-8C6591C3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963-8128-4C9C-A2DF-052E7972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8E4A-F932-403F-B869-B8247D8C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B8F6-785A-4D78-8620-FD0B0787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8CAF-AA35-468E-9E0A-266627A3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C7AF-FAC1-471F-A814-F42A036A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60DC-E382-4916-865F-C41BED7D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AB7-26D7-461F-8075-B8EBD122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52F-786F-433F-AD9C-7C756513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DD1-5CA1-4F09-90FB-CC680880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7B6-6CF0-4BB3-89F2-610399F8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8A3-4990-466C-BE30-165FDD20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427-1DAD-4D70-90F1-5B189250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231-B374-491A-83DC-3E1D8585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BFED-D8AA-4BE7-83BE-FC0430ADA10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214200" y="1357200"/>
            <a:ext cx="8747280" cy="5267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3357720" y="642960"/>
            <a:ext cx="257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AAMA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33" descr="logofeup1"/>
          <p:cNvPicPr/>
          <p:nvPr/>
        </p:nvPicPr>
        <p:blipFill>
          <a:blip r:embed="rId2">
            <a:alphaModFix amt="0"/>
          </a:blip>
          <a:srcRect l="6299" t="2941" r="6299" b="2941"/>
          <a:stretch/>
        </p:blipFill>
        <p:spPr>
          <a:xfrm>
            <a:off x="285840" y="500040"/>
            <a:ext cx="857160" cy="790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ugénio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71840" y="649296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utonomous Agents and Multiagen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867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ook Antiqua"/>
              </a:rPr>
              <a:t>Doctoral Program 2007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amas0708.html" TargetMode="External"/><Relationship Id="rId2" Type="http://schemas.openxmlformats.org/officeDocument/2006/relationships/hyperlink" Target="file:///aamas0708.html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071720" y="4643280"/>
            <a:ext cx="7286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ugénio Oliveira FE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ui Mendes 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Jorge Simão F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143000" y="1785960"/>
            <a:ext cx="74296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MULTI- AG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gent concept extended for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Neural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volutionary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Comic Sans MS"/>
              </a:rPr>
              <a:t>Multi-Agent Systems with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warm 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Computational entity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ituate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in the environment and displaying a degree of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autonomy , reactivity and pro-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e webpage cour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AAMAS_07_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human-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2"/>
          <p:cNvSpPr/>
          <p:nvPr/>
        </p:nvSpPr>
        <p:spPr>
          <a:xfrm rot="20385000">
            <a:off x="4929120" y="3499920"/>
            <a:ext cx="30718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software according to the current spread out of processing capabilities into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1071720" y="1857240"/>
            <a:ext cx="7286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s are now network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as a process of interac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willing to ask computers to cope with more sophisticated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iving contr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comput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: automatic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500" spc="-1" strike="noStrike">
                <a:solidFill>
                  <a:srgbClr val="c00000"/>
                </a:solidFill>
                <a:latin typeface="Comic Sans MS"/>
              </a:rPr>
              <a:t>human-orientation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grammers conceptualize and implement software in terms of higher-level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ore human-oriented abstrac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(Programs that are User-frien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ubtitle 2"/>
          <p:cNvSpPr/>
          <p:nvPr/>
        </p:nvSpPr>
        <p:spPr>
          <a:xfrm>
            <a:off x="1214280" y="171468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ubtitle 2" descr=""/>
          <p:cNvPicPr/>
          <p:nvPr/>
        </p:nvPicPr>
        <p:blipFill>
          <a:blip r:embed="rId1"/>
          <a:stretch/>
        </p:blipFill>
        <p:spPr>
          <a:xfrm>
            <a:off x="895320" y="2693880"/>
            <a:ext cx="747396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Subtitle 2"/>
          <p:cNvSpPr/>
          <p:nvPr/>
        </p:nvSpPr>
        <p:spPr>
          <a:xfrm>
            <a:off x="114300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Progress on Software Paradig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dependently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in a way that represents our best interests while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teracting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with other humans or system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ubtitle 2"/>
          <p:cNvSpPr/>
          <p:nvPr/>
        </p:nvSpPr>
        <p:spPr>
          <a:xfrm>
            <a:off x="1152360" y="136692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gents, what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ubtitle 2"/>
          <p:cNvSpPr/>
          <p:nvPr/>
        </p:nvSpPr>
        <p:spPr>
          <a:xfrm rot="20775600">
            <a:off x="2254320" y="5316480"/>
            <a:ext cx="692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Autonomy + Pro-activity + Inter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71360" y="2571480"/>
            <a:ext cx="7715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Global Computing needs, lead us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Multi-Agent System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Multi-agen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ystem is one that consists of a number of agents, which interact with one-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per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rdin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negoti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with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4:36:40Z</dcterms:created>
  <dc:creator> </dc:creator>
  <dc:description/>
  <dc:language>en-US</dc:language>
  <cp:lastModifiedBy>Manuel Bernardo Barbosa</cp:lastModifiedBy>
  <dcterms:modified xsi:type="dcterms:W3CDTF">2007-10-08T09:43:52Z</dcterms:modified>
  <cp:revision>6</cp:revision>
  <dc:subject/>
  <dc:title>Slide 1</dc:title>
</cp:coreProperties>
</file>