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CC7-9A54-4C28-8778-264347E1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0DE-1B35-45D5-A8ED-0453ABA4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CE48-12D0-400C-A3A4-5C282CE2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481-05FD-4984-BE6F-DB995AD2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0206-84EB-4E11-99A8-BBA09DFE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1CD1-00B1-4E72-8A4A-3D3018FD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8E14-1747-474C-B8A5-49FDA75A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D5EA-E258-4BEF-9F17-B27A17DE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F99A-331D-4E1F-A8DD-01ED9520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EC2E-A557-41C9-ADC8-8B03D318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37D7-2DC5-4200-B4B0-E02A7B6E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7D7F-F2B4-4DB7-A63D-E41F717C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F446-C261-4C4E-96B3-DC3AF169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5D75-0221-4C8B-A009-7B2CA3F2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988B-74B9-410A-A26D-2D7C5A1D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AF21-3D70-4D6A-8264-D1495158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4B85-2CF4-49EB-90AC-4B2E079B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1F88-1490-433B-8AC7-965F08A7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817B-30F6-4FE5-9464-12952623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99F-F09F-4877-B523-1D802CFB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070-92D4-4A59-AE97-7DB506AE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876-3FE3-404D-AB39-B0267267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C83-F94B-474E-AA02-BCF4CA7D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C7E-B77E-44DD-83B6-CD8F3587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5795-D7AE-44A7-9F2D-8B670F02AAF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E633-401C-4DF3-87BC-69AF1B271F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0B39-F434-47A9-8B6F-919BFEC08D8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F016-2DEE-41D3-B7DA-0138763A81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aproenca@di.uminho.pt" TargetMode="External"/><Relationship Id="rId3" Type="http://schemas.openxmlformats.org/officeDocument/2006/relationships/image" Target="../media/image1.png"/><Relationship Id="rId4" Type="http://schemas.openxmlformats.org/officeDocument/2006/relationships/hyperlink" Target="mailto:pja@" TargetMode="External"/><Relationship Id="rId5" Type="http://schemas.openxmlformats.org/officeDocument/2006/relationships/image" Target="../media/image1.png"/><Relationship Id="rId6" Type="http://schemas.openxmlformats.org/officeDocument/2006/relationships/hyperlink" Target="mailto:pbrazdil@liacc.up.pt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hyperlink" Target="mailto:amjorge@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80520" y="281952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Rele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MAP-i</a:t>
            </a:r>
            <a:br>
              <a:rPr sz="4000"/>
            </a:b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Data-Mining &amp; Logic Program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8753-CC2A-4A22-81DD-0FF82352EA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69F420E-C2C5-42F8-9FDC-8953F61CB2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Calendar and tim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Weekly Lectures (3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4 Projects (One Per Modu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997C-8421-4F78-826B-6FB83E59D8C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176F8-CE7E-413C-B35B-E9D2A0992A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Objectiv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Learn key concepts in machine learning/data min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concepts in L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stand I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sue Research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Data M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lational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C59C-127A-4390-A937-DB05F4250C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8E5F5-A275-46A9-A08B-963A978DC8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Motiv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ly Expanding Are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on of Logic, Statistical and Machine Learning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Real Life Ap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55F-40B2-4727-A274-42806685A8F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9DC36-9B13-4484-9BF4-C9459BE677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ioInformatic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71600" y="1079640"/>
            <a:ext cx="6019920" cy="57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8C6-5BC6-40CF-8B19-C75876FC9D9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3C613-58C8-439D-8415-9DC21DF260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cial Network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743120"/>
            <a:ext cx="8286840" cy="51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FD72-31A2-467E-B080-575FD0FE0B0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C39D1-B89A-4A83-9C31-F92A2E99F3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ata Strea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1557360"/>
            <a:ext cx="8534520" cy="530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3DE-3D1D-46A6-95A9-92276191C48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E5CCF-5483-435B-9253-77437A089E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rganiz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 to Data M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 to Logic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utting it Together: I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Moving Forwar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Advanced Data-Mining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Statistical Relational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261-2B1F-4249-B4AD-4909FBE09F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8F3A3-D286-4269-AB0A-A4CDFA4BD3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Progra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ata Mining: Intro, Classification, Regression, Multiple Models, Frequent Patterns, Methodolo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Logic Programming: Computational Model, Implementation, Ta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Inductive Logic Programming: Fundaments, Examples,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dvances in Data Mining, Mining Streams, Logic and Statistical Re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7FF-02B1-421B-8FCA-31B9BC96988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564F7-CD56-4816-8841-C4877C635E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2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cc00"/>
                </a:solidFill>
                <a:latin typeface="Arial Black"/>
              </a:rPr>
              <a:t>Tea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cardo Roch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ricroc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2"/>
              </a:rPr>
              <a:t>@dcc.fc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ulo Azeved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4"/>
              </a:rPr>
              <a:t>pja@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di.uminho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vel Brazdi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pbrazdil@liacc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ui Camach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jls@di.uminho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ípio Jorg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9"/>
              </a:rPr>
              <a:t>amjorge@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fep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ítor Santos Cost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vsc@dcc.fc.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DADD-4938-4C4B-BB8A-023033CBD56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342A9-CA40-4E72-989C-E2B5A6F313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21:55:25Z</dcterms:created>
  <dc:creator>FCUP</dc:creator>
  <dc:description/>
  <dc:language>en-US</dc:language>
  <cp:lastModifiedBy>Your User Name</cp:lastModifiedBy>
  <dcterms:modified xsi:type="dcterms:W3CDTF">2007-10-08T09:22:33Z</dcterms:modified>
  <cp:revision>53</cp:revision>
  <dc:subject/>
  <dc:title>Slide 1</dc:title>
</cp:coreProperties>
</file>