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27778-9CC8-49FA-B4FD-CA7BEF5AD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4C86-C5B0-41A0-B918-1EFDE7CD7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14DE-2545-48E6-9137-60B97D809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35447-802B-4CA4-8069-BA799732D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C69E-0B94-4D4A-86CA-C3E2224F0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F19BC-BE5F-4EFC-818E-BBB44313C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AB9E-4D04-4C64-B546-69130F6B2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3ED6-E140-48C4-8D85-61D8486CE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5E79-A82F-4D1B-BB8A-3171CAF4C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75DF3-8720-4C0F-BF16-BD7A2AB56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42F7-3D49-4F33-9094-F4EB71E74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F4D8-7998-466E-99C1-2507BA675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320" y="205920"/>
            <a:ext cx="8928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EF61-CFD7-4000-9710-39CE657C7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6464160"/>
            <a:ext cx="2666880" cy="33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 rot="16200000">
            <a:off x="-3191040" y="3190680"/>
            <a:ext cx="685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892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Model-driven</a:t>
            </a:r>
            <a:br>
              <a:rPr sz="4400"/>
            </a:b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Software Enginee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João M. Fernand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Universidade do Minho – Portug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82680" cy="996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8000" y="115920"/>
            <a:ext cx="892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Model-driven Software Engineering -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91320" y="6248520"/>
            <a:ext cx="3174840" cy="39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l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the cost-effective use of something in place of something else for some purpo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allows us to use something that is simpler, safer or cheaper than rea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epresents reality for the given purp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model is an abstraction of reality in the sense that it cannot represent all its aspec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allows the world to be dealt in a simplified manner, avoiding the complexity, danger and irreversibility of rea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28BAE-0260-4A38-9C8C-FC22C467A09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DSE is the application of model-driven engineering to software engineer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sists of systematically using models as  primary engineering artefacts to develop softw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ftware engineering by nature possesses both a scientific and a technological asp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education, a good balance between these two aspects should always be pursu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ressing various software modelling techniques is a good way to achieve this a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1C24-2DAB-47AE-A684-66059719165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xplain the need for describing software systems with models, as a way to abstract from the system’s complexity and to reason about their properti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early differentiate from behavioural/dynamic and informational/structural models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identify the expressiveness and limitations of different modelling languages and to describe the type of system views they better 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A26A-880D-4882-A3F3-A5DA42B90FE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models for the activities associated with the development of large software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reate, analyze, validate, verify and transform sets of  models with the adequate detail for the software system under development, based on a multiple view approa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describe/implement model transformations for automating the software process, namely to generate final code from the mode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0750-436D-44F5-8DA6-548A6496BFA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DI, UMin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MF - J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ão M. Fernande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ftware engineering;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havioural modelling; software proces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SB - Luís S. Barbos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formal methods; software components;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FC - José C. Campo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uman-computer interaction; software engineer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C - Alcino Cunh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; functional programming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FEUP, UPor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PF - João Pascoal Fari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requirements engineering; model-driven developmen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P - Ana C. Paiv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GUI test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CAC0-76E2-4981-B00C-C2176932FD8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. Principles of MDS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M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2. Models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4 lessons: JMF-1, LSB-2,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3. Model Qual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4. Model V&amp;V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JFC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5. Model Transform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2 lessons: JMF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6. Model-based Testing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ACP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7. Re-engineer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F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8. Case-study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common to all less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2DFE-49A7-4532-B3AD-9604204FF72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urse credited by C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ssessmen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written assignments (e.g., a research paper analysis, models for the case study) proposed on the end of each course un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an individual survey monograp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Other 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0E42-EC5B-4C67-B5EE-DA43EA3F485C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ão M. Fernandes</cp:lastModifiedBy>
  <dcterms:modified xsi:type="dcterms:W3CDTF">2007-10-08T09:42:04Z</dcterms:modified>
  <cp:revision>68</cp:revision>
  <dc:subject/>
  <dc:title>Model Transformations with UML and CPN models</dc:title>
</cp:coreProperties>
</file>