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1FA-ADAC-4271-979C-CDF23A56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408-6E1D-414E-B7FB-34073D3D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C9A-1937-4CBB-B52A-2CCBEC88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CBB-8911-4828-8F9B-B6955BFA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46E9-B067-4579-BDB4-C03E9263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0795-25F4-4645-9D7A-614C145B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BF94-4BE4-46CF-B628-0CDC71D5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803C-45EB-417B-88C1-BCCC7739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BFA6-C8FF-4D8D-AFEB-843680AC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19ED-170A-476E-BBD1-6B7C7BBA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13EB-6FAD-4541-ABD3-751319E9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F87-83EA-44DB-9560-861F1CF4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F4BC-948C-4CED-B0D4-D7AF2CCF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449D-9A09-4093-A6E2-65B8143C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4B45-91A0-4F35-89A0-BD109905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37C2-0A94-44FF-A3A3-980E8769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7180-31C8-47B5-8420-2C501067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DA8-3B2C-498E-90ED-E631D08B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A97-B792-497C-B11D-8E7F5A3A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7CF-DD03-4CC4-83A7-734A3D95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E87-2DC1-44A6-8CB9-7D522E9D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1D2-B622-4431-A80F-DBA9EA42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CAC-3213-4C87-B121-55D411AA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352-8723-471C-85E0-75D4F6A8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D9D8-737A-4F8E-97FD-A65082AF39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214200" y="1357200"/>
            <a:ext cx="8747280" cy="5267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3357720" y="642960"/>
            <a:ext cx="257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AAMA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33" descr="logofeup1"/>
          <p:cNvPicPr/>
          <p:nvPr/>
        </p:nvPicPr>
        <p:blipFill>
          <a:blip r:embed="rId2">
            <a:alphaModFix amt="0"/>
          </a:blip>
          <a:srcRect l="6299" t="2941" r="6299" b="2941"/>
          <a:stretch/>
        </p:blipFill>
        <p:spPr>
          <a:xfrm>
            <a:off x="285840" y="500040"/>
            <a:ext cx="857160" cy="790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ugénio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71840" y="649296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utonomous Agents and Multiagen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67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ook Antiqua"/>
              </a:rPr>
              <a:t>Doctoral Program 2007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amas0708.html" TargetMode="External"/><Relationship Id="rId2" Type="http://schemas.openxmlformats.org/officeDocument/2006/relationships/hyperlink" Target="file:///aamas0708.html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71720" y="4643280"/>
            <a:ext cx="7286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ugénio Oliveira FE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ui Mendes 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Jorge Simão F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143000" y="1785960"/>
            <a:ext cx="74296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MULTI- AG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gent concept extended fo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Neural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volutionary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Comic Sans MS"/>
              </a:rPr>
              <a:t>Multi-Agent Systems with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warm 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Computational entity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ituate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in the environment and displaying a degree of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autonomy , reactivity and pro-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 webpage cour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AAMAS_07_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human-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2"/>
          <p:cNvSpPr/>
          <p:nvPr/>
        </p:nvSpPr>
        <p:spPr>
          <a:xfrm rot="20385000">
            <a:off x="4929120" y="3499920"/>
            <a:ext cx="30718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software according to the current spread out of processing capabilities into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1071720" y="1857240"/>
            <a:ext cx="72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s are now network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as a process of intera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willing to ask computers to cope with more sophisticated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iving contr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comput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: automatic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500" spc="-1" strike="noStrike">
                <a:solidFill>
                  <a:srgbClr val="c00000"/>
                </a:solidFill>
                <a:latin typeface="Comic Sans MS"/>
              </a:rPr>
              <a:t>human-orientation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grammers conceptualize and implement software in terms of higher-level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re human-oriented abstra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(Programs that are User-frien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ubtitle 2"/>
          <p:cNvSpPr/>
          <p:nvPr/>
        </p:nvSpPr>
        <p:spPr>
          <a:xfrm>
            <a:off x="1214280" y="171468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ubtitle 2" descr=""/>
          <p:cNvPicPr/>
          <p:nvPr/>
        </p:nvPicPr>
        <p:blipFill>
          <a:blip r:embed="rId1"/>
          <a:stretch/>
        </p:blipFill>
        <p:spPr>
          <a:xfrm>
            <a:off x="895320" y="2693880"/>
            <a:ext cx="747396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Subtitle 2"/>
          <p:cNvSpPr/>
          <p:nvPr/>
        </p:nvSpPr>
        <p:spPr>
          <a:xfrm>
            <a:off x="114300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Progress on Software Paradig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dependently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in a way that represents our best interests while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teracting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with other humans or system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ubtitle 2"/>
          <p:cNvSpPr/>
          <p:nvPr/>
        </p:nvSpPr>
        <p:spPr>
          <a:xfrm>
            <a:off x="1152360" y="136692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gents, what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ubtitle 2"/>
          <p:cNvSpPr/>
          <p:nvPr/>
        </p:nvSpPr>
        <p:spPr>
          <a:xfrm rot="20775600">
            <a:off x="2254320" y="5316480"/>
            <a:ext cx="692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Autonomy + Pro-activity + Inter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1360" y="2571480"/>
            <a:ext cx="7715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Global Computing needs, lead us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Multi-Agent System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Multi-agen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ystem is one that consists of a number of agents, which interact with one-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per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rdin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negoti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with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4:36:40Z</dcterms:created>
  <dc:creator> </dc:creator>
  <dc:description/>
  <dc:language>en-US</dc:language>
  <cp:lastModifiedBy>Manuel Bernardo Barbosa</cp:lastModifiedBy>
  <dcterms:modified xsi:type="dcterms:W3CDTF">2007-10-08T09:43:52Z</dcterms:modified>
  <cp:revision>6</cp:revision>
  <dc:subject/>
  <dc:title>Slide 1</dc:title>
</cp:coreProperties>
</file>