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E4A-40D1-4011-8FEF-5D7B93E3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01B-F6D2-4296-A9DE-1A258270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CD7-E2A3-4AB3-B979-9079B413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969-4655-4887-A84A-14F87E5D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362-C834-44EF-BEBD-A4FFA674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B25-10CD-4756-BFAC-71CDF812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0E0-91CA-4B39-BD27-9F911A5F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37B-96CD-4BAB-93CC-0BF0BECD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EE8-3448-416B-89FE-3F1BF995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C02-C16F-4328-9158-57DF1939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D6C-34C8-4B62-8760-9EBE3901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076F-312E-42B3-A1C5-D62AA544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P-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57909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GC/ 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35053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2578-E970-4D96-84A8-3F62683F0A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114800"/>
            <a:ext cx="9140760" cy="2590920"/>
            <a:chOff x="3240" y="411480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11480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745240"/>
              <a:ext cx="1256760" cy="827280"/>
              <a:chOff x="5600880" y="574524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589608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594360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599436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03252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07392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74524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46776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04836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79276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75496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11532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612040"/>
              <a:ext cx="2581200" cy="1084320"/>
              <a:chOff x="2819520" y="561204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09300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13116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16428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19308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20568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23916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28668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35184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591516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596268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592452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26760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69772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596448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80248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61204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32484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67864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181840"/>
              <a:ext cx="2144880" cy="1303200"/>
              <a:chOff x="6553080" y="518184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24844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19120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18184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20892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31368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64840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60088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48640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41980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39136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49612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57532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61024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64192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68656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71824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76576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648320"/>
              <a:ext cx="674640" cy="409680"/>
              <a:chOff x="8381880" y="464832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490536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64832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71492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00076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67676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67676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70232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745160"/>
                <a:ext cx="360360" cy="209520"/>
                <a:chOff x="8542440" y="474516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74516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76748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78332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80852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228240" y="5562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Alberto Proenç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aproenca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 António Pin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pina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Inês Dutr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ines@dcc.fc.up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João Sobral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jls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Jorge Barbos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jbarbosa@fe.up.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294920" y="22860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aradig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6094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uster and Grid Computing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MAP-i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9EF28CC-9F81-43A7-B1F2-D5CC4E0637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interested in the area of parallel and distributed comp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 and Distributed Programming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id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A96-B927-43AA-BD97-556335FF19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100F3-597A-4F26-BCB6-2D9A685597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Relev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rge number of scientific ev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id Computing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ference on Cluster and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ference on Middleware for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blications with high impact ra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High Performanc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Parallel and Distribute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EE Transactions on Distribute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cial and economic impact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cine, Biology, Physic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cts: EGEE, TeraGrid, InterGrid, InGri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8D7-BF67-4EA4-93B8-C06EEBE4048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3C2F8-5ACB-472B-9763-941F36067B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: PDP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rogramming models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hared and distributed memory, multithreading, programming for multi-c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application development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design phases, common parallel patterns, performance metrics and profiling, optimization techniques, mapping and scheduling, state-of-the-art on parallel and distributed systems and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I: Cluster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uster planning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rchitecture and Cluster Software, Design Decisions, Network Hardware, Network Software, Protocols, Distributed File Systems, Virtualization technologies, Benchma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II: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s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Operations Infrastructure, Middleware and Application, Virtual Organization management, Resource Discovery and Info Services, Data Access Integration and Management, Web Services, Grid Port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205-F07E-4310-B8B7-43D448715D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AF4BB-C9C3-4A56-9C58-D8BC2408D9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aradig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anula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632040" y="990720"/>
            <a:ext cx="5435640" cy="5410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05760" y="914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48680" y="2246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4360" y="3443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5400" y="48769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678-9BF8-46BB-93A5-13C9146B1DA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3D769-8F15-4E71-AEDF-1660AB45E3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amiliar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rogramming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 of parallel applic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issues, scheduling, etc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conversant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components of Cluster and Grid environments, such as: authentication, authorization, resource discovery and resource acc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tential of e-infrastruct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luster and Grid environments for basic and advanced job submission, and distributed data management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observant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id achievement worldwid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ing Grid applic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research opportun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076-0B5B-451A-8A1E-0ECF7D6C080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B574A-563D-43F2-BF9F-E0CB3494E1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EGEE-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238880" cy="464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908-7BBA-4F17-8CA7-EA8978AC6FC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9A762-60D4-470E-9B9C-53DABCF434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Real Time Moni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765520" y="5249880"/>
            <a:ext cx="79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ridportal.hep.ph.ic.ac.uk/rt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921-3335-422A-B11D-5B75A92E628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AE9BC-F029-4E57-B8B9-42C4954CDF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1533600"/>
            <a:ext cx="8382240" cy="4486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5127480"/>
            <a:ext cx="533160" cy="55440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CG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14400" y="5410080"/>
          <a:ext cx="16002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5410080"/>
                    <a:ext cx="16002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066680" y="6033960"/>
            <a:ext cx="1295640" cy="366840"/>
          </a:xfrm>
          <a:prstGeom prst="rect">
            <a:avLst/>
          </a:pr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409-6BD2-4660-AA26-6F4F1F6BACC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17072-E3C3-4B4C-AEDF-D793E4D0CB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1:55:25Z</dcterms:created>
  <dc:creator>FCUP</dc:creator>
  <dc:description/>
  <dc:language>en-US</dc:language>
  <cp:lastModifiedBy>FCUP</cp:lastModifiedBy>
  <dcterms:modified xsi:type="dcterms:W3CDTF">2007-10-07T22:04:14Z</dcterms:modified>
  <cp:revision>72</cp:revision>
  <dc:subject/>
  <dc:title>Slide 1</dc:title>
</cp:coreProperties>
</file>