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C478-51B2-49ED-B451-0FA2043CD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91F7-01CE-4EED-A14A-8EB675706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B7C0-7F4E-4C2C-86CD-73867C17A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AEAC-4A99-47D0-9C2E-907A35C41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78B45-D1C9-486D-9C77-C0215C0A0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65A99-CA3F-4FEF-A685-7CF8B4230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9376B-3BFE-41FD-8507-EB23C0DC6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DC7AA-B45B-4663-944D-0423F638B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87273-F037-4BC0-903E-9C5C36603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ECDA7-DC84-4582-9F83-67C36B23A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17C19-0A91-47D2-91A3-B877E21A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9526-F955-4B57-8EE7-7656C9D14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33D51-3B26-4070-B4D6-BCD7DC85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1A08F-B587-4FD4-B5C5-67271BE5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21AE8-596B-4FFD-A345-FC6A8D26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FB8EA-7D59-44D8-8DEB-595D093B8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012EB-B2B4-4403-96EC-8C0DAF33F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E2C5-0B7B-422B-A91D-08282A7DA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4B2B-E160-4BB7-A745-A7CE10BF9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FCAE-3352-47F2-B873-C132E8FB3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10CF-D29B-4DAD-AC66-26F3A443B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5192-3BDA-46F1-9C12-E99E1213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367E-8530-4538-9984-94C5F224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B768-961E-4BAF-9D41-DA84E8EB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2AB6B-37E3-4446-9B62-BE8706FC53C1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44B35-991E-41FA-AD57-E541C7EADF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FFA3C-9455-486A-8F03-5D718D48C593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8E290-D069-4A76-BB31-60348A644E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aproenca@di.uminho.pt" TargetMode="External"/><Relationship Id="rId3" Type="http://schemas.openxmlformats.org/officeDocument/2006/relationships/image" Target="../media/image1.png"/><Relationship Id="rId4" Type="http://schemas.openxmlformats.org/officeDocument/2006/relationships/hyperlink" Target="mailto:pja@" TargetMode="External"/><Relationship Id="rId5" Type="http://schemas.openxmlformats.org/officeDocument/2006/relationships/image" Target="../media/image1.png"/><Relationship Id="rId6" Type="http://schemas.openxmlformats.org/officeDocument/2006/relationships/hyperlink" Target="mailto:pbrazdil@liacc.up.pt" TargetMode="External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hyperlink" Target="mailto:amjorge@" TargetMode="External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380520" y="281952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Relev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Eval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ffff"/>
                </a:solidFill>
                <a:latin typeface="Arial"/>
              </a:rPr>
              <a:t>MAP-i</a:t>
            </a:r>
            <a:br>
              <a:rPr sz="4000"/>
            </a:br>
            <a:r>
              <a:rPr b="0" lang="pt-PT" sz="4000" spc="-1" strike="noStrike">
                <a:solidFill>
                  <a:srgbClr val="ffffff"/>
                </a:solidFill>
                <a:latin typeface="Arial"/>
              </a:rPr>
              <a:t>Data-Mining &amp; Logic Programm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56A1D-D632-481E-9B4E-EE53BEAC387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EFFF572E-B312-448E-B52A-CB32FA856B5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ffcc00"/>
                </a:solidFill>
                <a:latin typeface="Arial Black"/>
              </a:rPr>
              <a:t>Calendar and tim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Weekly Lectures (3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Eval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4 Projects (One Per Modu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9317-EF90-48B9-B66F-6B3B572C5D0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F90BE9-3889-4E99-B26C-8C69EE0A034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ffcc00"/>
                </a:solidFill>
                <a:latin typeface="Arial Black"/>
              </a:rPr>
              <a:t>Objectiv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Learn key concepts in machine learning/data mining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key concepts in LP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nderstand IL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sue Research 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anced Data Mi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stical Relational Lear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28CA-51F6-4C1E-A1A8-C136E5C71AD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0266FC-838C-43B8-8574-302C59CE1E4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ffcc00"/>
                </a:solidFill>
                <a:latin typeface="Arial Black"/>
              </a:rPr>
              <a:t>Motiva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ckly Expanding Area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on of Logic, Statistical and Machine Learning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Real Life Applica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707D-BDF6-4238-8875-23878BBD957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66B2CB-366F-4C48-9645-8DC3A2312EB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BioInformatic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371600" y="1079640"/>
            <a:ext cx="6019920" cy="577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429C-7211-4168-A196-D86DFDFA563B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FBAC21-63F6-413A-AC35-E3FA1599B0B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Social Network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57200" y="1743120"/>
            <a:ext cx="8286840" cy="511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5993-CD71-43BA-9CAB-24694C1F4DC1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6BAF93-1455-42E7-9BE9-5822F78F45B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Data Stream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80880" y="1557360"/>
            <a:ext cx="8534520" cy="5300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4B38-CF22-494F-BAB8-C58C1BC19E4B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95A77C-8838-4CB1-8BD4-F7266E43E22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Organiza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Intro to Data M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Intro to Logic Program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Putting it Together: IL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Moving Forwar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Clr>
                <a:srgbClr val="ffffff"/>
              </a:buClr>
              <a:buSzPct val="65000"/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Advanced Data-Mining Re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Clr>
                <a:srgbClr val="ffffff"/>
              </a:buClr>
              <a:buSzPct val="65000"/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Statistical Relational Lear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4D1B-AB8F-4625-9820-5E4CF16B5D8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B80B69-A373-44CA-9135-8B778873448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ffcc00"/>
                </a:solidFill>
                <a:latin typeface="Arial Black"/>
              </a:rPr>
              <a:t>Program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Data Mining: Intro, Classification, Regression, Multiple Models, Frequent Patterns, Methodolog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Logic Programming: Computational Model, Implementation, Tab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Inductive Logic Programming: Fundaments, Examples,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Advances in Data Mining, Mining Streams, Logic and Statistical Represen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9661-0241-4B0C-8293-20266FBCA63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D4980D-6F2A-45F2-B261-208EE68ADD7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8290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cc00"/>
                </a:solidFill>
                <a:latin typeface="Arial Black"/>
              </a:rPr>
              <a:t>Team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icardo Rocha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ricroc</a:t>
            </a:r>
            <a:r>
              <a:rPr b="0" lang="en-GB" sz="2400" spc="-1" strike="noStrike" u="sng">
                <a:solidFill>
                  <a:srgbClr val="f98d43"/>
                </a:solidFill>
                <a:uFillTx/>
                <a:latin typeface="Arial"/>
                <a:hlinkClick r:id="rId2"/>
              </a:rPr>
              <a:t>@dcc.fc.up.p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ulo Azevedo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2400" spc="-1" strike="noStrike" u="sng">
                <a:solidFill>
                  <a:srgbClr val="f98d43"/>
                </a:solidFill>
                <a:uFillTx/>
                <a:latin typeface="Arial"/>
                <a:hlinkClick r:id="rId4"/>
              </a:rPr>
              <a:t>pja@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di.uminho.p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vel Brazdil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2400" spc="-1" strike="noStrike" u="sng">
                <a:solidFill>
                  <a:srgbClr val="f98d43"/>
                </a:solidFill>
                <a:uFillTx/>
                <a:latin typeface="Arial"/>
                <a:hlinkClick r:id="rId6"/>
              </a:rPr>
              <a:t>pbrazdil@liacc.up.p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ui Camacho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jls@di.uminho.p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lípio Jorge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2400" spc="-1" strike="noStrike" u="sng">
                <a:solidFill>
                  <a:srgbClr val="f98d43"/>
                </a:solidFill>
                <a:uFillTx/>
                <a:latin typeface="Arial"/>
                <a:hlinkClick r:id="rId9"/>
              </a:rPr>
              <a:t>amjorge@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fep.up.p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ítor Santos Costa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vsc@dcc.fc..up.p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F923-B359-4DF2-82C9-3D1FC9EE479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A331D5-A5F6-4AD4-B139-E0D7E68F7A4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1T21:55:25Z</dcterms:created>
  <dc:creator>FCUP</dc:creator>
  <dc:description/>
  <dc:language>en-US</dc:language>
  <cp:lastModifiedBy>Your User Name</cp:lastModifiedBy>
  <dcterms:modified xsi:type="dcterms:W3CDTF">2007-10-08T09:22:33Z</dcterms:modified>
  <cp:revision>53</cp:revision>
  <dc:subject/>
  <dc:title>Slide 1</dc:title>
</cp:coreProperties>
</file>