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0D3F-2F20-48A1-8EF8-F0607131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4351-861B-465C-A27B-91A5D019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BBB8-FD99-4329-B09F-4F0EF31F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43DF-5A70-4CE8-9FFD-2563FDE3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957A-6ED6-4B13-9F0E-13106669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5773-4724-48EF-BEC3-FCF1B967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4E60-72AF-4FFD-8E59-B071DDF1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4E94-B9CA-478B-BE99-DEC1B805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B400-863E-41CF-BA27-F70F7F01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4202-4BB8-4A7A-95E8-C063BD22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86CD-E4BB-40FC-8E1A-FFEB8663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5CFB-3BDA-4877-AB1D-1F75A575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33AA-504A-4FD8-A955-536F62EB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4433-9FD4-48C7-9E74-178099E9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DAFE-9D69-4CE8-BBAC-15E156C3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0E11-66CE-4C4C-B98B-BD34DB30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3EE6-2E59-476F-9F88-845E41A8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2084-AC62-418F-9545-58D494EE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D65B-95F4-4417-8810-7E09E138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FF0-C7E2-48C8-927B-5BD3CDDD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2F24-13FC-47FE-BE00-A5D32346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6D73-84A0-43DC-A82B-2C38BE9D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B2B9-E877-469C-A515-081F6656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5231-1045-4E0F-8A81-6F5D122D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9DE5-0122-414B-A03A-DB0AEEF1D4B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E47B-D9B7-4B8A-8D33-1F57DB5E6F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FCE6-DE5C-4C28-9523-922B3C3A7E6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5287-1AD1-4DB9-B0A3-7C550D624A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aproenca@di.uminho.pt" TargetMode="External"/><Relationship Id="rId3" Type="http://schemas.openxmlformats.org/officeDocument/2006/relationships/image" Target="../media/image1.png"/><Relationship Id="rId4" Type="http://schemas.openxmlformats.org/officeDocument/2006/relationships/hyperlink" Target="mailto:pja@" TargetMode="External"/><Relationship Id="rId5" Type="http://schemas.openxmlformats.org/officeDocument/2006/relationships/image" Target="../media/image1.png"/><Relationship Id="rId6" Type="http://schemas.openxmlformats.org/officeDocument/2006/relationships/hyperlink" Target="mailto:pbrazdil@liacc.up.pt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hyperlink" Target="mailto:amjorge@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80520" y="281952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Rele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ffff"/>
                </a:solidFill>
                <a:latin typeface="Arial"/>
              </a:rPr>
              <a:t>MAP-i</a:t>
            </a:r>
            <a:br>
              <a:rPr sz="4000"/>
            </a:br>
            <a:r>
              <a:rPr b="0" lang="pt-PT" sz="4000" spc="-1" strike="noStrike">
                <a:solidFill>
                  <a:srgbClr val="ffffff"/>
                </a:solidFill>
                <a:latin typeface="Arial"/>
              </a:rPr>
              <a:t>Data-Mining &amp; Logic Program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7598-8947-477C-8D0E-9547A96F800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653D119-FDBA-4B74-B946-23686B5879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Calendar and tim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Weekly Lectures (3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4 Projects (One Per Modu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01C6-1186-43B0-9194-7C197DB3FE5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2E8EE-28B6-4DB9-95D1-775C6A963B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Objectiv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Learn key concepts in machine learning/data mining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concepts in L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stand I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sue Research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Data M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lational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4975-3798-44DD-A766-CA5F03ACB95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79943-7749-4B91-B74E-AA4B0EDAC2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Motiv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ckly Expanding Are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on of Logic, Statistical and Machine Learning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Real Life Appl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7306-10AA-4E69-A1CC-98EB6F86C3C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DD65B-505F-476D-80CB-21E8A67E1F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ioInformatic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71600" y="1079640"/>
            <a:ext cx="6019920" cy="57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DE45-AD50-4B0B-8337-A7F8E1A4297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0D5A2-1B9F-47E3-9A8C-6A14566ABB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cial Network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743120"/>
            <a:ext cx="8286840" cy="51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2961-75CE-4F5C-AA4F-02EC93A6006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B31EE-4196-4F3E-BC13-CB691F9FFE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ata Strea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880" y="1557360"/>
            <a:ext cx="8534520" cy="530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D3A2-B431-4796-9137-151CFDAD815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84F40-6D40-4A9A-9743-D0701EA31D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rganiz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tro to Data M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tro to Logic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Putting it Together: I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Moving Forwar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Advanced Data-Mining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Statistical Relational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D3E2-80FB-49DA-B2FD-171CA8D32C3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BE394-0562-46C6-939C-A5DACBD088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Progra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ata Mining: Intro, Classification, Regression, Multiple Models, Frequent Patterns, Methodolo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Logic Programming: Computational Model, Implementation, Tab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Inductive Logic Programming: Fundaments, Examples,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dvances in Data Mining, Mining Streams, Logic and Statistical Re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D3BE-5120-49EA-87E3-81B4C464280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86E5E-8079-4C53-8AF5-9BDC0793A5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82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cc00"/>
                </a:solidFill>
                <a:latin typeface="Arial Black"/>
              </a:rPr>
              <a:t>Tea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cardo Rocha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ricroc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2"/>
              </a:rPr>
              <a:t>@dcc.fc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ulo Azeved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4"/>
              </a:rPr>
              <a:t>pja@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di.uminho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vel Brazdi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pbrazdil@liacc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ui Camach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jls@di.uminho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ípio Jorg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9"/>
              </a:rPr>
              <a:t>amjorge@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fep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ítor Santos Costa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vsc@dcc.fc.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B234-ADDF-4135-8CE7-9F237F02FC0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6BBE0-9458-4B85-9B63-1C314EAD97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21:55:25Z</dcterms:created>
  <dc:creator>FCUP</dc:creator>
  <dc:description/>
  <dc:language>en-US</dc:language>
  <cp:lastModifiedBy>Your User Name</cp:lastModifiedBy>
  <dcterms:modified xsi:type="dcterms:W3CDTF">2007-10-08T09:22:33Z</dcterms:modified>
  <cp:revision>53</cp:revision>
  <dc:subject/>
  <dc:title>Slide 1</dc:title>
</cp:coreProperties>
</file>