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884C3-F0AE-45AF-9406-2ED31D10A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CA89B-D221-4A3A-893D-DDC135351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7DBCF-510F-4D33-9928-115695C90C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6A55E-D15F-4279-A5C4-9CE9C3617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65000"/>
            <a:ext cx="8229600" cy="17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C75D4-754C-49CF-B3BD-59AEF1C05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73913-903B-4121-971B-D05139A8C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D052A-587F-4A10-B9C6-D769ACF17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CE976-260B-42CF-9009-C0F0FB5AB6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5000"/>
            <a:ext cx="8229600" cy="17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23CD6-68D8-48DB-93A1-4D650644C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5DF0A-64EC-41ED-A63D-4B0435CFBD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2BA13-C816-46E7-A1D8-C9A8235C1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F60BF-7363-4C43-9E2D-BD7FBC59A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320" y="205920"/>
            <a:ext cx="892800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DAC5-07AF-4859-9C6F-429CFEC7CD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320" y="6464160"/>
            <a:ext cx="2666880" cy="33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 rot="16200000">
            <a:off x="-3191040" y="3190680"/>
            <a:ext cx="685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8000" y="1699920"/>
            <a:ext cx="8928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350b"/>
                </a:solidFill>
                <a:latin typeface="Tahoma"/>
              </a:rPr>
              <a:t>Model-driven</a:t>
            </a:r>
            <a:br>
              <a:rPr sz="4400"/>
            </a:br>
            <a:r>
              <a:rPr b="1" lang="en-US" sz="4400" spc="-1" strike="noStrike">
                <a:solidFill>
                  <a:srgbClr val="d1350b"/>
                </a:solidFill>
                <a:latin typeface="Tahoma"/>
              </a:rPr>
              <a:t>Software Engineer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400536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João M. Fernande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Universidade do Minho – Portug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5562720"/>
            <a:ext cx="1282680" cy="996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8000" y="115920"/>
            <a:ext cx="8928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ahoma"/>
              </a:rPr>
              <a:t>Model-driven Software Engineering - 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791320" y="6248520"/>
            <a:ext cx="3174840" cy="39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Model-Driven Software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Modelling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is the cost-effective use of something in place of something else for some purpos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allows us to use something that is simpler, safer or cheaper than real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mode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represents reality for the given purp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model is an abstraction of reality in the sense that it cannot represent all its aspec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allows the world to be dealt in a simplified manner, avoiding the complexity, danger and irreversibility of realit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91BB0-3E39-4ACE-BB4A-4E24A40DEA4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DSE is the application of model-driven engineering to software engineer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sists of systematically using models as  primary engineering artefacts to develop softwa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ftware engineering by nature possesses both a scientific and a technological asp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education, a good balance between these two aspects should always be pursu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ressing various software modelling techniques is a good way to achieve this ai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Model-Driven Software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8BD42-CD31-4694-A531-381B66E0AB3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explain the need for describing software systems with models, as a way to abstract from the system’s complexity and to reason about their propertie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clearly differentiate from behavioural/dynamic and informational/structural models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identify the expressiveness and limitations of different modelling languages and to describe the type of system views they better f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arning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97957-6168-467A-9938-F364C92D144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se models for the activities associated with the development of large software syste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create, analyze, validate, verify and transform sets of  models with the adequate detail for the software system under development, based on a multiple view approa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describe/implement model transformations for automating the software process, namely to generate final code from the mode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arning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80D06-8318-4D6D-8831-B8515C706F1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DI, UMin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MF - J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ão M. Fernandes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ftware engineering;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havioural modelling; software proces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SB - Luís S. Barbos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formal methods; software components;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 calcul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FC - José C. Campos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uman-computer interaction; software engineering; formal method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C - Alcino Cunh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 calculation; functional programming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FEUP, UPor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PF - João Pascoal Fari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odel-based testing; requirements engineering; model-driven developmen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P - Ana C. Paiv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odel-based testing; GUI testing; formal method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cturing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D61D0-69E1-4C4F-A5DE-404272F9B77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1. Principles of MDS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lesson: JMF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2. Models 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4 lessons: JMF-1, LSB-2, JPF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3. Model Quali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lesson: JPF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4. Model V&amp;V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2 lessons: JFC-1, MAC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5. Model Transformatio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2 lessons: JMF-1, MAC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6. Model-based Testing 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2 lessons: ACP-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7. Re-engineer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lesson: JFC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8. Case-study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common to all less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cturing un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B0B37-4BC5-45A4-8399-43D17AB90B3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urse credited by C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ssessmen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50% based on written assignments (e.g., a research paper analysis, models for the case study) proposed on the end of each course un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50% based on an individual survey monograp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Other 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F8C8B-8F27-40A9-86C8-8C948563F96A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ão M. Fernandes</cp:lastModifiedBy>
  <dcterms:modified xsi:type="dcterms:W3CDTF">2007-10-08T09:42:04Z</dcterms:modified>
  <cp:revision>68</cp:revision>
  <dc:subject/>
  <dc:title>Model Transformations with UML and CPN models</dc:title>
</cp:coreProperties>
</file>