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3BD-CCC4-4A9D-93AE-64D89BFD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D2C-57AB-44C6-AABC-E7C5F5E2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C66-2CD8-428C-B576-CDFE4B73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376-D98A-4A02-B750-0E27093D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C151-33D4-4EB1-B92A-EBC7669A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BB0B-EC00-4715-943B-A51FC92B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FA97-15E4-4137-8398-F9AD70D7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6DCF-6396-44F8-9297-F2CF0083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10FC-65C9-4FB3-9082-CC6CE88B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544C-B158-4117-9B66-A1DD8636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6E82-7063-4C48-8213-958CAC0C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5D3-4173-4202-A280-6E74637C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4493-72F6-4982-8A73-C50F99EF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E7A2-5CE0-4F66-B35E-36828236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2931-03E2-4395-9E9A-CDCE0F73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ACBA-F6A5-44EB-9993-6C0EA10C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7456-6727-4249-AF1A-B7DA5A8E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071-E7FC-4654-8D32-7C4C80DB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D5D-499D-4A0A-80D1-BB74E13C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543-113E-4DBA-8B36-69835DF7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9CF-92E8-43CE-9BFC-AF5BAABE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85C-5E02-4D6E-B4BB-9F2A64FA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366-5875-4D5D-98E9-D3241437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44A-A411-4AFE-A37D-7CB4FC0F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FE28-05E8-4AFA-83C2-6DDB18FC649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214200" y="1357200"/>
            <a:ext cx="8747280" cy="5267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3357720" y="642960"/>
            <a:ext cx="257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AAMA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33" descr="logofeup1"/>
          <p:cNvPicPr/>
          <p:nvPr/>
        </p:nvPicPr>
        <p:blipFill>
          <a:blip r:embed="rId2">
            <a:alphaModFix amt="0"/>
          </a:blip>
          <a:srcRect l="6299" t="2941" r="6299" b="2941"/>
          <a:stretch/>
        </p:blipFill>
        <p:spPr>
          <a:xfrm>
            <a:off x="285840" y="500040"/>
            <a:ext cx="857160" cy="790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ugénio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71840" y="649296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utonomous Agents and Multiagen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867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ook Antiqua"/>
              </a:rPr>
              <a:t>Doctoral Program 2007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amas0708.html" TargetMode="External"/><Relationship Id="rId2" Type="http://schemas.openxmlformats.org/officeDocument/2006/relationships/hyperlink" Target="file:///aamas0708.html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071720" y="4643280"/>
            <a:ext cx="7286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ugénio Oliveira FE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ui Mendes 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Jorge Simão F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143000" y="1785960"/>
            <a:ext cx="74296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MULTI- AG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gent concept extended for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Neural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volutionary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Comic Sans MS"/>
              </a:rPr>
              <a:t>Multi-Agent Systems with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warm 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Computational entity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ituate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in the environment and displaying a degree of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autonomy , reactivity and pro-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e webpage cour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AAMAS_07_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human-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2"/>
          <p:cNvSpPr/>
          <p:nvPr/>
        </p:nvSpPr>
        <p:spPr>
          <a:xfrm rot="20385000">
            <a:off x="4929120" y="3499920"/>
            <a:ext cx="30718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software according to the current spread out of processing capabilities into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1071720" y="1857240"/>
            <a:ext cx="7286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s are now network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as a process of interac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willing to ask computers to cope with more sophisticated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iving contr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comput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: automatic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500" spc="-1" strike="noStrike">
                <a:solidFill>
                  <a:srgbClr val="c00000"/>
                </a:solidFill>
                <a:latin typeface="Comic Sans MS"/>
              </a:rPr>
              <a:t>human-orientation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grammers conceptualize and implement software in terms of higher-level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ore human-oriented abstrac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(Programs that are User-frien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ubtitle 2"/>
          <p:cNvSpPr/>
          <p:nvPr/>
        </p:nvSpPr>
        <p:spPr>
          <a:xfrm>
            <a:off x="1214280" y="171468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ubtitle 2" descr=""/>
          <p:cNvPicPr/>
          <p:nvPr/>
        </p:nvPicPr>
        <p:blipFill>
          <a:blip r:embed="rId1"/>
          <a:stretch/>
        </p:blipFill>
        <p:spPr>
          <a:xfrm>
            <a:off x="895320" y="2693880"/>
            <a:ext cx="747396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Subtitle 2"/>
          <p:cNvSpPr/>
          <p:nvPr/>
        </p:nvSpPr>
        <p:spPr>
          <a:xfrm>
            <a:off x="114300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Progress on Software Paradig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dependently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in a way that represents our best interests while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teracting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with other humans or system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ubtitle 2"/>
          <p:cNvSpPr/>
          <p:nvPr/>
        </p:nvSpPr>
        <p:spPr>
          <a:xfrm>
            <a:off x="1152360" y="136692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gents, what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ubtitle 2"/>
          <p:cNvSpPr/>
          <p:nvPr/>
        </p:nvSpPr>
        <p:spPr>
          <a:xfrm rot="20775600">
            <a:off x="2254320" y="5316480"/>
            <a:ext cx="692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Autonomy + Pro-activity + Inter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71360" y="2571480"/>
            <a:ext cx="7715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Global Computing needs, lead us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Multi-Agent System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Multi-agen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ystem is one that consists of a number of agents, which interact with one-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per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rdin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negoti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with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4:36:40Z</dcterms:created>
  <dc:creator> </dc:creator>
  <dc:description/>
  <dc:language>en-US</dc:language>
  <cp:lastModifiedBy>Manuel Bernardo Barbosa</cp:lastModifiedBy>
  <dcterms:modified xsi:type="dcterms:W3CDTF">2007-10-08T09:43:52Z</dcterms:modified>
  <cp:revision>6</cp:revision>
  <dc:subject/>
  <dc:title>Slide 1</dc:title>
</cp:coreProperties>
</file>