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44B0-9DD0-48B9-A86F-C97D99B43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3E2B-657C-4664-BD8C-A40A2DD3E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A4AB-4CFE-4EB8-8AF9-A0770469E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36C7-EED2-4023-8419-55E720762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EC13-9F5A-4708-A42F-5ECCF3079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1E6E-F89B-4518-AD08-E3DDCB9F3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615F-609E-4B79-8FF1-F83014777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8325-F14A-47F5-8E10-37A5C8982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5477-5340-4411-8FF9-846A124CD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FCCD-E06B-4B0E-A8E3-DCD03B932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C6A6-8382-4578-8158-D6ECEC9AD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67CF-E38F-4A67-A925-AEA4E2A71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AP-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5790960" y="61718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GC/ 2007-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3505320" y="6171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E542C-F4E0-4877-94FC-BCDC8D196C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114800"/>
            <a:ext cx="9140760" cy="2590920"/>
            <a:chOff x="3240" y="411480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11480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745240"/>
              <a:ext cx="1256760" cy="827280"/>
              <a:chOff x="5600880" y="574524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589608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594360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599436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03252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07392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74524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46776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04836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79276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75496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11532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612040"/>
              <a:ext cx="2581200" cy="1084320"/>
              <a:chOff x="2819520" y="561204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09300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13116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16428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19308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20568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23916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28668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35184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591516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596268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592452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26760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69772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596448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80248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61204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32484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67864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181840"/>
              <a:ext cx="2144880" cy="1303200"/>
              <a:chOff x="6553080" y="518184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24844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19120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18184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20892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31368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64840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60088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48640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41980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39136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49612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57532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61024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64192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68656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71824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76576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648320"/>
              <a:ext cx="674640" cy="409680"/>
              <a:chOff x="8381880" y="464832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490536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64832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71492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00076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67676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67676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70232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745160"/>
                <a:ext cx="360360" cy="209520"/>
                <a:chOff x="8542440" y="474516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74516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76748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78332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80852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228240" y="556272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Alberto Proença </a:t>
            </a:r>
            <a:r>
              <a:rPr b="0" i="1" lang="en-GB" sz="1600" spc="-1" strike="noStrike">
                <a:solidFill>
                  <a:srgbClr val="ffffff"/>
                </a:solidFill>
                <a:latin typeface="Times New Roman"/>
              </a:rPr>
              <a:t>aproenca@di.uminho.pt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,  António Pina </a:t>
            </a:r>
            <a:r>
              <a:rPr b="0" i="1" lang="en-GB" sz="1600" spc="-1" strike="noStrike">
                <a:solidFill>
                  <a:srgbClr val="ffffff"/>
                </a:solidFill>
                <a:latin typeface="Times New Roman"/>
              </a:rPr>
              <a:t>pina@di.uminho.pt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,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Inês Dutra </a:t>
            </a:r>
            <a:r>
              <a:rPr b="0" i="1" lang="en-GB" sz="1600" spc="-1" strike="noStrike">
                <a:solidFill>
                  <a:srgbClr val="ffffff"/>
                </a:solidFill>
                <a:latin typeface="Times New Roman"/>
              </a:rPr>
              <a:t>ines@dcc.fc.up.pt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, João Sobral </a:t>
            </a:r>
            <a:r>
              <a:rPr b="0" i="1" lang="en-GB" sz="1600" spc="-1" strike="noStrike">
                <a:solidFill>
                  <a:srgbClr val="ffffff"/>
                </a:solidFill>
                <a:latin typeface="Times New Roman"/>
              </a:rPr>
              <a:t>jls@di.uminho.pt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, Jorge Barbosa </a:t>
            </a:r>
            <a:r>
              <a:rPr b="0" i="1" lang="en-GB" sz="1600" spc="-1" strike="noStrike">
                <a:solidFill>
                  <a:srgbClr val="ffffff"/>
                </a:solidFill>
                <a:latin typeface="Times New Roman"/>
              </a:rPr>
              <a:t>jbarbosa@fe.up.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1294920" y="22860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ev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Paradig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609480"/>
            <a:ext cx="822960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Cluster and Grid Computing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MAP-i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1A41EF22-6A80-4485-AEF0-50721D666A1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dienc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ents interested in the area of parallel and distributed comput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ganiza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allel and Distributed Programming Mod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uster Compu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id Compu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5627-E1CD-4F1B-8A3F-4BDBEC4AFC3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7E0B25-D067-417B-A188-ACAE3B36EDB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ccecff"/>
                </a:solidFill>
                <a:latin typeface="Arial"/>
              </a:rPr>
              <a:t>Relevan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arge number of scientific even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rid Computing Confe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ference on Cluster and Grid Compu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ference on Middleware for Grid Compu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ublications with high impact ra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ournal of Grid Compu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ournal of High Performance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ournal of Parallel and Distributed Compu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EEE Transactions on Distributed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ocial and economic impact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edicine, Biology, Physics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ojects: EGEE, TeraGrid, InterGrid, InGrid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D021-45A6-4E19-823A-7DEFEE60148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95BEBC-B982-479D-A96B-559C71C2498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nten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 I: PDP Mod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allel Programming models: 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shared and distributed memory, multithreading, programming for multi-co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allel application development: 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design phases, common parallel patterns, performance metrics and profiling, optimization techniques, mapping and scheduling, state-of-the-art on parallel and distributed systems and applic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 II: Cluster Compu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uster planning: 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Architecture and Cluster Software, Design Decisions, Network Hardware, Network Software, Protocols, Distributed File Systems, Virtualization technologies, Benchmar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 III: Grid Compu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onents: 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Operations Infrastructure, Middleware and Application, Virtual Organization management, Resource Discovery and Info Services, Data Access Integration and Management, Web Services, Grid Port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DF07-0263-4527-B0BE-7E2DDFD815D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D8DE17-11CE-4AC5-B20B-A6459CE2150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Paradig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51920" y="1828800"/>
            <a:ext cx="3429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3880" indent="-3538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rt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3880" indent="-3538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mmun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3880" indent="-3538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ranula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3880" indent="-3538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app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3632040" y="990720"/>
            <a:ext cx="5435640" cy="541008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5405760" y="914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548680" y="2246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634360" y="3443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945400" y="48769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8356-5B95-4539-9EDE-6207A17E387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9A21CC-55A5-40D4-B5DE-187299A8BCD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ccecff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familiar with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allel programming mod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ment  of parallel application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formance issues, scheduling, etc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conversant with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fundamental components of Cluster and Grid environments, such as: authentication, authorization, resource discovery and resource acces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otential of e-infrastructur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able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Cluster and Grid environments for basic and advanced job submission, and distributed data management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observant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id achievement worldwide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merging Grid application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w research opportuni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DE8D-21D8-4D83-A74F-2EB9807ACAF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0D3FF8-12D0-4570-BE71-D5E6F8EF114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ccecff"/>
                </a:solidFill>
                <a:latin typeface="Arial"/>
              </a:rPr>
              <a:t>EGEE-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238880" cy="4640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E0C6-2CB3-4944-9CE2-17B34DFF4AD2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D297CA-DF32-452A-B33B-E0783875732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ccecff"/>
                </a:solidFill>
                <a:latin typeface="Arial"/>
              </a:rPr>
              <a:t>Real Time Monito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2765520" y="5249880"/>
            <a:ext cx="790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ridportal.hep.ph.ic.ac.uk/rtm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6B26-3D27-432A-8FDF-639152DCEF8F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B49EAD-1D33-435A-8C64-20BC080EEB4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ccecff"/>
                </a:solidFill>
                <a:latin typeface="Arial"/>
              </a:rPr>
              <a:t>Timetabl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380880" y="1533600"/>
            <a:ext cx="8382240" cy="44863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990720" y="5127480"/>
            <a:ext cx="533160" cy="554400"/>
          </a:xfrm>
          <a:prstGeom prst="rect">
            <a:avLst/>
          </a:prstGeom>
          <a:solidFill>
            <a:srgbClr val="af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Arial"/>
              </a:rPr>
              <a:t>CG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914400" y="5410080"/>
          <a:ext cx="160020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5410080"/>
                    <a:ext cx="160020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1066680" y="6033960"/>
            <a:ext cx="1295640" cy="366840"/>
          </a:xfrm>
          <a:prstGeom prst="rect">
            <a:avLst/>
          </a:prstGeom>
          <a:solidFill>
            <a:srgbClr val="008a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0B1A-325E-4133-AACF-944BEAC9ED55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E2082F-CD58-4778-9697-E7EA1943B9F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1T21:55:25Z</dcterms:created>
  <dc:creator>FCUP</dc:creator>
  <dc:description/>
  <dc:language>en-US</dc:language>
  <cp:lastModifiedBy>FCUP</cp:lastModifiedBy>
  <dcterms:modified xsi:type="dcterms:W3CDTF">2007-10-07T22:04:14Z</dcterms:modified>
  <cp:revision>72</cp:revision>
  <dc:subject/>
  <dc:title>Slide 1</dc:title>
</cp:coreProperties>
</file>