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CE3-DBE8-475D-9C98-2AD46E00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754-E0D6-4A4D-BA63-FD78F696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C4A-90C2-48EF-83D2-90E9CA56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A67-D1B6-42D4-B078-149D63E1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C71B-874B-4BB1-B141-B0AFA51B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5E85-7D3F-4A37-93E0-21EFE742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69B3-F2C7-4129-8F45-1EE1BEFC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67AB-8AF6-43D9-B790-BEC41167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8EC6-81AB-4105-8909-9E7DC872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13FE-86A4-48E5-AD6F-9C835506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F569-AAAB-4DC3-B05A-1D37872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843-B438-4525-B579-C9730AAE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15A1-E42D-43FC-A202-089D1820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D638-6C3D-4698-AD14-08043941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C036-6948-49BD-AEC5-A3FA74EC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F60-2632-4E0C-9AEF-FC6CC137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3A17-A1A0-4016-9C84-87BC60CC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DC5-6205-4DC1-973F-01D3D415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DAE-89CA-4163-BA76-79D6770A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CD0-F055-482B-9E3A-E581F978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971-60A1-4253-9036-2D5D04D1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114-9DA3-4589-B2AA-652F398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DE5-0DF6-44D2-B9BA-AB79508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CD0-39C4-464E-971E-0DB05B2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C06A-B79E-4701-9AD4-D1515AD127B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D4C6-BED8-465C-9846-990D13CD8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7078-47A2-4269-9843-7497830E840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5BC6-A5C4-4EBC-8ECF-05422D485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proenca@di.uminho.p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pja@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pbrazdil@liacc.up.p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mailto:amjorge@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52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MAP-i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Data-Mining &amp; Log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69FE-B6A1-4B6A-B796-AC62EB270B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BC56209-ECD2-46EF-A0EE-46ACD5DED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alendar and ti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Weekly Lectures (3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4 Projects (One Per 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916-2E31-4EA2-83D5-56A936C7F3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CE482-271C-42CD-BEBC-0E9FA5A0F5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Learn key concepts in machine learning/data min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concepts in L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Resear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5BB-B11A-419C-B10D-DA1E805133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92FD1-474D-4272-9BB5-630FF590FF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ly Expanding Ar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Logic, Statistical and Machine Learn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Real Lif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310-108F-40F0-9AFB-9437698247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FEFC9-5E63-4225-B9B6-3A310A1BEA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Informat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1079640"/>
            <a:ext cx="601992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879-28E8-40AF-85A8-2018F8F0480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F77E1-82F1-46C6-A037-F68E1C3B75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cial Network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8684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B64-A7E1-4EB1-A1D7-90208650BA2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073E8-2035-4C7A-B119-8DB80E0088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ata Strea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53452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9BE-3069-4D80-8CE5-46724FE721E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6AAF4-D527-4C5D-BC7B-CF80EB6876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Data 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Logic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utting it Together: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oving Forwa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dvanced Data-Mining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AC2-F7BD-484B-93DE-E8D510ACC6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B8B04-3B67-4358-9A73-626607EBC0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Pro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ta Mining: Intro, Classification, Regression, Multiple Models, Frequent Patterns, Method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Logic Programming: Computational Model, Implementation, T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ductive Logic Programming: Fundaments, Examples,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vances in Data Mining, Mining Streams, Logic and Statistical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CF7-01F0-4E99-8E39-28464BE6EC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D8EE8-90C7-4F47-B234-3A0F938C34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cc00"/>
                </a:solidFill>
                <a:latin typeface="Arial Black"/>
              </a:rPr>
              <a:t>Tea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cardo Roch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icroc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@dcc.f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o Azeved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pja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vel Brazdi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pbrazdil@liac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i Camach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jls@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ípio Jor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amjorge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ep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ítor Santos Cost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vsc@dcc.fc.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31D-2DC9-4B36-801C-9A3D818665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A8AE7-159E-413C-8F0F-29CEAE210D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Your User Name</cp:lastModifiedBy>
  <dcterms:modified xsi:type="dcterms:W3CDTF">2007-10-08T09:22:33Z</dcterms:modified>
  <cp:revision>53</cp:revision>
  <dc:subject/>
  <dc:title>Slide 1</dc:title>
</cp:coreProperties>
</file>