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BF7E-6F97-403A-9264-396EC0F7D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6783-19F5-46D5-90A3-80BE56527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95EA-42DA-44E1-96D9-B4EAB73A0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8ADD3-49A2-40A4-BD68-352112CB7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E091-7F34-41BB-99B5-272EE537C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C579-86A0-48DE-99F7-4B5446D3B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B2DF-6C80-4A64-A2E9-B3A9597DE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789B-5E3E-49EC-802A-4AB874ED3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F71B-862D-4A31-8FCE-38AD3EFE9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2AE7F-5791-47FD-AAEA-E8C63627C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A91B-6CC6-4128-8AA3-7A70CDA50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9A7B-3DE1-4503-807B-433917FFE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320" y="205920"/>
            <a:ext cx="8928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7D8C-9B02-47AF-AC91-F9E0D3F34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6464160"/>
            <a:ext cx="2666880" cy="33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 rot="16200000">
            <a:off x="-3191040" y="3190680"/>
            <a:ext cx="685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Model-driven</a:t>
            </a:r>
            <a:br>
              <a:rPr sz="4400"/>
            </a:b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Software Enginee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João M. Fernand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Universidade do Minho – Portug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82680" cy="996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000" y="115920"/>
            <a:ext cx="892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Model-driven Software Engineering -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6248520"/>
            <a:ext cx="317484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l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the cost-effective use of something in place of something else for some purpo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allows us to use something that is simpler, safer or cheaper than re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epresents reality for the given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del is an abstraction of reality in the sense that it cannot represent all its aspec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allows the world to be dealt in a simplified manner, avoiding the complexity, danger and irreversibility of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3732E-0F21-4859-A235-5C08F6064EE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DSE is the application of model-driven engineering to software engineer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sists of systematically using models as  primary engineering artefacts to develop softw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ftware engineering by nature possesses both a scientific and a technological asp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education, a good balance between these two aspects should always be pursu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ing various software modelling techniques is a good way to achieve this a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AB73-1F27-4955-8F4B-D33D2F8AFA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xplain the need for describing software systems with models, as a way to abstract from the system’s complexity and to reason about their properti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early differentiate from behavioural/dynamic and informational/structural models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dentify the expressiveness and limitations of different modelling languages and to describe the type of system views they better 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4248-C820-4E49-A1A8-969DBA8CB1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models for the activities associated with the development of large software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reate, analyze, validate, verify and transform sets of  models with the adequate detail for the software system under development, based on a multiple view appro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describe/implement model transformations for automating the software process, namely to generate final code from the mode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F1CD1-0333-4A80-834E-332431CBD6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DI, UMin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MF - J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ão M. Fernande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ftware engineering;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havioural modelling; software proces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SB - Luís S. Barbos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formal methods; software components;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FC - José C. Campo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uman-computer interaction; software engineer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C - Alcino Cunh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; functional programming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FEUP, UPo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PF - João Pascoal Fari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requirements engineering; model-driven developmen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P - Ana C. Paiv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GUI test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8D91-7E52-411E-8834-9D98DA0F25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. Principles of MDS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M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2. Models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4 lessons: JMF-1, LSB-2,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. Model Qual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4. Model V&amp;V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JFC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5. Model Transform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2 lessons: JMF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6. Model-based Testing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ACP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7. Re-engineer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F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8. Case-study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common to all les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EB3C-4C6E-44FB-B06F-FD631AF14F4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urse credited by C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ssess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written assignments (e.g., a research paper analysis, models for the case study) proposed on the end of each course un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an individual survey monograp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Other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4DCE-2018-49A6-A0CD-DE288375DA6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ão M. Fernandes</cp:lastModifiedBy>
  <dcterms:modified xsi:type="dcterms:W3CDTF">2007-10-08T09:42:04Z</dcterms:modified>
  <cp:revision>68</cp:revision>
  <dc:subject/>
  <dc:title>Model Transformations with UML and CPN models</dc:title>
</cp:coreProperties>
</file>