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4.wmf" ContentType="image/x-wmf"/>
  <Override PartName="/ppt/media/image2.wmf" ContentType="image/x-wmf"/>
  <Override PartName="/ppt/media/image3.jpeg" ContentType="image/jpe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A0089-1327-4AB9-B85C-DAE3ABD5D2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708CF-91D5-4843-B0A9-C274FF597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BB29-DED0-4C16-A0AE-1108168F7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6D89A-0900-4CC0-B3FF-EC34731F7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9E228-8E7E-42AF-8A17-35C55AD63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6D01-B4EF-46FA-AF2A-45F19C944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40353-8D7F-4741-B9F8-E7A5D1D988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C8E51-453A-4924-BAE3-DC96C4CD9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E765-EAD7-456F-90B1-21AEDBECB3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222DB-3B3B-45B4-B261-2191EA306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41D8D-520D-4E47-8C5F-EB3F49625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2762F-51E1-497F-85BF-BD5EF100E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MAP-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5790960" y="61718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CGC/ 2007-200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3505320" y="61718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77E57-83EE-4AC5-B40E-C99F2C12AEA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114800"/>
            <a:ext cx="9140760" cy="2590920"/>
            <a:chOff x="3240" y="411480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11480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745240"/>
              <a:ext cx="1256760" cy="827280"/>
              <a:chOff x="5600880" y="574524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589608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594360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599436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03252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07392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74524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46776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04836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79276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75496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11532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612040"/>
              <a:ext cx="2581200" cy="1084320"/>
              <a:chOff x="2819520" y="561204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09300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13116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16428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19308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20568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23916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28668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35184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591516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596268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592452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26760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69772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596448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80248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61204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32484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67864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181840"/>
              <a:ext cx="2144880" cy="1303200"/>
              <a:chOff x="6553080" y="518184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24844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19120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18184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20892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31368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64840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60088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48640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41980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39136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49612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57532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61024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64192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68656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71824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76576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648320"/>
              <a:ext cx="674640" cy="409680"/>
              <a:chOff x="8381880" y="464832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490536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64832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71492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00076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67676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67676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70232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745160"/>
                <a:ext cx="360360" cy="209520"/>
                <a:chOff x="8542440" y="474516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74516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76748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78332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80852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228240" y="5562720"/>
            <a:ext cx="8915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Alberto Proenç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aproenc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António Pin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pina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Inês Dutr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ines@dcc.fc.up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ão Sobral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ls@di.uminho.pt</a:t>
            </a:r>
            <a:r>
              <a:rPr b="0" lang="en-GB" sz="1600" spc="-1" strike="noStrike">
                <a:solidFill>
                  <a:srgbClr val="ffffff"/>
                </a:solidFill>
                <a:latin typeface="Times New Roman"/>
              </a:rPr>
              <a:t>, Jorge Barbosa </a:t>
            </a:r>
            <a:r>
              <a:rPr b="0" i="1" lang="en-GB" sz="1600" spc="-1" strike="noStrike">
                <a:solidFill>
                  <a:srgbClr val="ffffff"/>
                </a:solidFill>
                <a:latin typeface="Times New Roman"/>
              </a:rPr>
              <a:t>jbarbosa@fe.up.p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1294920" y="2286000"/>
            <a:ext cx="71629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Introduc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elevanc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ont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pt-PT" sz="3200" spc="-1" strike="noStrike">
                <a:solidFill>
                  <a:srgbClr val="ffffff"/>
                </a:solidFill>
                <a:latin typeface="Arial"/>
              </a:rPr>
              <a:t>Paradigm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bjective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" y="609480"/>
            <a:ext cx="8229600" cy="11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Cluster and Grid Computing</a:t>
            </a:r>
            <a:br>
              <a:rPr sz="4800"/>
            </a:br>
            <a:r>
              <a:rPr b="0" lang="en-US" sz="4800" spc="-1" strike="noStrike">
                <a:solidFill>
                  <a:srgbClr val="ccecff"/>
                </a:solidFill>
                <a:latin typeface="Arial"/>
              </a:rPr>
              <a:t>MAP-i</a:t>
            </a:r>
            <a:br>
              <a:rPr sz="4800"/>
            </a:b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fld id="{9297D540-2AC6-4852-9B93-710748972F3B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Introduction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Audience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udents interested in the area of parallel and distributed computing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-71136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Organization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arallel and Distributed Programming Mod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uster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66680" indent="-609480">
              <a:spcBef>
                <a:spcPts val="700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Grid Computin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71136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C1BB-2F33-4A03-A7B0-B3C28CB25801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CE60ED-B10F-491A-83FC-F83091F8A95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levanc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Large number of scientific event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Grid Computing Conferen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Cluster and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onference on Middleware for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ublications with high impact rat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High Performance Applica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Journal of Parallel and Distribute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IEEE Transactions on Distributed Syst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ocial and economic impacts: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601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Medicine, Biology, Physic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rojects: EGEE, TeraGrid, InterGrid, InGrid…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462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D09A-03FF-44DC-BD41-F13E38CD5392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22BFF8-9F2B-4185-B8A4-2F0A60529E4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ontent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066680"/>
            <a:ext cx="86868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: PDP Model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shared and distributed memory, multithreading, programming for multi-cor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application development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design phases, common parallel patterns, performance metrics and profiling, optimization techniques, mapping and scheduling, state-of-the-art on parallel and distributed systems and applic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: Cluster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uster planning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Architecture and Cluster Software, Design Decisions, Network Hardware, Network Software, Protocols, Distributed File Systems, Virtualization technologies, Benchmark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rt III: Grid Comput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verview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onents: </a:t>
            </a: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Operations Infrastructure, Middleware and Application, Virtual Organization management, Resource Discovery and Info Services, Data Access Integration and Management, Web Services, Grid Porta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D0BAC-773F-4AD1-A3EA-1006D7A6C42B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33A04E-B9DD-4ADD-B10D-AA126F65EE4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cecff"/>
                </a:solidFill>
                <a:latin typeface="Arial"/>
              </a:rPr>
              <a:t>Paradigm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51920" y="1828800"/>
            <a:ext cx="3429000" cy="320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Parti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Communicatio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Granulari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53880" indent="-353880">
              <a:spcBef>
                <a:spcPts val="799"/>
              </a:spcBef>
              <a:buClr>
                <a:srgbClr val="99ff99"/>
              </a:buClr>
              <a:buSzPct val="80000"/>
              <a:buFont typeface="Arial"/>
              <a:buAutoNum type="arabicPeriod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Arial"/>
              </a:rPr>
              <a:t>Mapping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3632040" y="990720"/>
            <a:ext cx="5435640" cy="5410080"/>
          </a:xfrm>
          <a:prstGeom prst="rect">
            <a:avLst/>
          </a:prstGeom>
          <a:ln w="0">
            <a:noFill/>
          </a:ln>
        </p:spPr>
      </p:pic>
      <p:sp>
        <p:nvSpPr>
          <p:cNvPr id="220" name=""/>
          <p:cNvSpPr/>
          <p:nvPr/>
        </p:nvSpPr>
        <p:spPr>
          <a:xfrm>
            <a:off x="5405760" y="914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5548680" y="2246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5634360" y="344340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945400" y="48769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18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8567-A18B-4FEC-A639-F8D0CAA10814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D87F561-F444-4520-8644-C47D40A5AE4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09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Objectives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2282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familiar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rallel programming model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elopment  of parallel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 issues, scheduling, etc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conversant with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fundamental components of Cluster and Grid environments, such as: authentication, authorization, resource discovery and resource acces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potential of e-infrastructure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able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se Cluster and Grid environments for basic and advanced job submission, and distributed data management;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e observant to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Grid achievement worldwide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merging Grid application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w research opportuniti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1E1B2-5071-4D81-945F-9488A250C4A6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550104-825B-4675-AA18-37ED650338D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EGEE-2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685800" y="1371600"/>
            <a:ext cx="7238880" cy="464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C0F9-56E2-4742-99AF-F6E0FF59DD7E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8E9722-054D-468A-B5D4-9462CC33F82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-22860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Real Time Monitor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762120" y="685800"/>
            <a:ext cx="7619760" cy="571500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/>
          <p:nvPr/>
        </p:nvSpPr>
        <p:spPr>
          <a:xfrm>
            <a:off x="2765520" y="5249880"/>
            <a:ext cx="790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ridportal.hep.ph.ic.ac.uk/rtm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0B0B3-F654-4A9D-B71F-8FEEBDF5D331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49D68F-77CE-404B-8CDD-12CA4E497B6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PT" sz="4400" spc="-1" strike="noStrike">
                <a:solidFill>
                  <a:srgbClr val="ccecff"/>
                </a:solidFill>
                <a:latin typeface="Arial"/>
              </a:rPr>
              <a:t>Timetable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380880" y="1533600"/>
            <a:ext cx="8382240" cy="44863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990720" y="5127480"/>
            <a:ext cx="533160" cy="554400"/>
          </a:xfrm>
          <a:prstGeom prst="rect">
            <a:avLst/>
          </a:prstGeom>
          <a:solidFill>
            <a:srgbClr val="af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PT" sz="1200" spc="-1" strike="noStrike">
                <a:solidFill>
                  <a:srgbClr val="000000"/>
                </a:solidFill>
                <a:latin typeface="Arial"/>
              </a:rPr>
              <a:t>CG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914400" y="5410080"/>
          <a:ext cx="16002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14400" y="5410080"/>
                    <a:ext cx="16002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6" name=""/>
          <p:cNvSpPr/>
          <p:nvPr/>
        </p:nvSpPr>
        <p:spPr>
          <a:xfrm>
            <a:off x="1066680" y="6033960"/>
            <a:ext cx="1295640" cy="366840"/>
          </a:xfrm>
          <a:prstGeom prst="rect">
            <a:avLst/>
          </a:prstGeom>
          <a:solidFill>
            <a:srgbClr val="008a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60EFF-17EF-4A92-9581-81287E1EA6C3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23F2A92-F56B-4D48-8BEB-CB57E35D56D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01T21:55:25Z</dcterms:created>
  <dc:creator>FCUP</dc:creator>
  <dc:description/>
  <dc:language>en-US</dc:language>
  <cp:lastModifiedBy>FCUP</cp:lastModifiedBy>
  <dcterms:modified xsi:type="dcterms:W3CDTF">2007-10-07T22:04:14Z</dcterms:modified>
  <cp:revision>72</cp:revision>
  <dc:subject/>
  <dc:title>Slide 1</dc:title>
</cp:coreProperties>
</file>