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media/image6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6FD45-9772-489E-BE31-08369FCEB7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73356-2825-4237-AF21-B61813D616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9D34B-871C-45A4-A8D0-603A8C227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0BD3D-96CF-46AA-ACBF-CB19F86AA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0BB43-0BAB-4ADB-B094-4D36AABC1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B9A2F-D955-409C-BD59-D09D9B81F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70118-FB64-469E-88C8-3810632A8E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4DC0E-3450-453C-83C1-B5A2EB483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ACCC3-F115-4AAA-9B40-84F6A56A3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4389EA-278B-4E76-83A0-D85949306A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6363C-CF66-4A24-A56C-CA4D6ED02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0D184-C65D-4E18-851D-A75A870F2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087D4-F96B-4EF9-B791-D88442D8F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99FF4-1557-494F-BDCD-A67766F62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4B8F38-2D05-4F51-A7E2-AE33C8140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8F1FA-6D32-43FD-B98D-7DC0CB799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5D62F0-3458-413B-893F-E4D543FF91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2DA67-328E-482A-B602-5557A021D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D09B4-2300-4015-B65E-49A674F48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23291-8EF8-4E6E-9ECA-98976C53E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88277-82CA-4FC6-B666-E5129D8EB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DB34D-2573-49D7-AC9C-6ACF5EA67F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BB24E-D73E-4C69-ABB7-F5FD799FE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288EC-BDE7-49FF-AC54-10E7EB8F6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D5CD6-44AE-4694-A0E3-F99C9AEFA3BE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4D4C1-0E80-4CA6-B2FC-640BABAC51E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99" name="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8B84E-26FE-40A2-865E-9F6323BE30FB}" type="datetime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07/28/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0EA52-6CBC-4894-8FE2-4B8EB24441E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mailto:aproenca@di.uminho.pt" TargetMode="External"/><Relationship Id="rId3" Type="http://schemas.openxmlformats.org/officeDocument/2006/relationships/image" Target="../media/image1.png"/><Relationship Id="rId4" Type="http://schemas.openxmlformats.org/officeDocument/2006/relationships/hyperlink" Target="mailto:pja@" TargetMode="External"/><Relationship Id="rId5" Type="http://schemas.openxmlformats.org/officeDocument/2006/relationships/image" Target="../media/image1.png"/><Relationship Id="rId6" Type="http://schemas.openxmlformats.org/officeDocument/2006/relationships/hyperlink" Target="mailto:pbrazdil@liacc.up.pt" TargetMode="External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hyperlink" Target="mailto:amjorge@" TargetMode="External"/><Relationship Id="rId10" Type="http://schemas.openxmlformats.org/officeDocument/2006/relationships/image" Target="../media/image1.png"/><Relationship Id="rId1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380520" y="2819520"/>
            <a:ext cx="71629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PT" sz="32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PT" sz="3200" spc="-1" strike="noStrike">
                <a:solidFill>
                  <a:srgbClr val="ffffff"/>
                </a:solidFill>
                <a:latin typeface="Arial"/>
              </a:rPr>
              <a:t>Relev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PT" sz="3200" spc="-1" strike="noStrike">
                <a:solidFill>
                  <a:srgbClr val="ffffff"/>
                </a:solidFill>
                <a:latin typeface="Arial"/>
              </a:rPr>
              <a:t>Cont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SzPct val="8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PT" sz="3200" spc="-1" strike="noStrike">
                <a:solidFill>
                  <a:srgbClr val="ffffff"/>
                </a:solidFill>
                <a:latin typeface="Arial"/>
              </a:rPr>
              <a:t>Eval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ffffff"/>
                </a:solidFill>
                <a:latin typeface="Arial"/>
              </a:rPr>
              <a:t>MAP-i</a:t>
            </a:r>
            <a:br>
              <a:rPr sz="4000"/>
            </a:br>
            <a:r>
              <a:rPr b="0" lang="pt-PT" sz="4000" spc="-1" strike="noStrike">
                <a:solidFill>
                  <a:srgbClr val="ffffff"/>
                </a:solidFill>
                <a:latin typeface="Arial"/>
              </a:rPr>
              <a:t>Data-Mining &amp; Logic Programming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4D528-6322-4DA1-95F7-6A43EBBA0F62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4E4E9D36-B601-416A-A1B1-A9059B7D5D8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ffcc00"/>
                </a:solidFill>
                <a:latin typeface="Arial Black"/>
              </a:rPr>
              <a:t>Calendar and time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ffff"/>
                </a:solidFill>
                <a:latin typeface="Arial"/>
              </a:rPr>
              <a:t>Weekly Lectures (3h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ffff"/>
                </a:solidFill>
                <a:latin typeface="Arial"/>
              </a:rPr>
              <a:t>Evalu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ffffff"/>
                </a:solidFill>
                <a:latin typeface="Arial"/>
              </a:rPr>
              <a:t>4 Projects (One Per Module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D1724-3AE8-4316-B79D-1DB382783A62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CE7BF0-3B8C-4924-8233-8E1E2FE9C98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ffcc00"/>
                </a:solidFill>
                <a:latin typeface="Arial Black"/>
              </a:rPr>
              <a:t>Objective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ffff"/>
                </a:solidFill>
                <a:latin typeface="Arial"/>
              </a:rPr>
              <a:t>Learn key concepts in machine learning/data mining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key concepts in LP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Understand IL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Pursue Research i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dvanced Data Min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tistical Relational Learn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F4F05-1195-4924-8AEF-9CEC953BB007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16A7BB9-34B4-48C3-97B7-3CC395AE9CB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ffcc00"/>
                </a:solidFill>
                <a:latin typeface="Arial Black"/>
              </a:rPr>
              <a:t>Motivation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Quickly Expanding Area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Union of Logic, Statistical and Machine Learning Wo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Many Real Life Application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3FB64-D35E-4320-A006-69B0D7B057B6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ED5F6B-D2A5-48C4-B485-35DE5294E83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2716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BioInformatic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371600" y="1079640"/>
            <a:ext cx="6019920" cy="5778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A46DF-81F5-4CAF-81A1-9088D601A806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7672DD7-2EC1-428A-AE78-AD815509184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Social Network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457200" y="1743120"/>
            <a:ext cx="8286840" cy="5114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228FC-9F21-4A56-AFCC-BF415DC49F4E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9F84E9-BCB0-433C-B488-2F7E85ABDC00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Data Streams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380880" y="1557360"/>
            <a:ext cx="8534520" cy="5300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B3C2B-CAFE-4F15-945A-8F57ABF7D252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7BF3A62-FFE0-4E3D-8E39-432869487EB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Organization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812880" indent="-812880">
              <a:spcBef>
                <a:spcPts val="799"/>
              </a:spcBef>
              <a:buClr>
                <a:srgbClr val="ffffff"/>
              </a:buClr>
              <a:buSzPct val="85000"/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ffff"/>
                </a:solidFill>
                <a:latin typeface="Arial"/>
              </a:rPr>
              <a:t>Intro to Data Min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812880" indent="-812880">
              <a:spcBef>
                <a:spcPts val="799"/>
              </a:spcBef>
              <a:buClr>
                <a:srgbClr val="ffffff"/>
              </a:buClr>
              <a:buSzPct val="85000"/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ffff"/>
                </a:solidFill>
                <a:latin typeface="Arial"/>
              </a:rPr>
              <a:t>Intro to Logic Programm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812880" indent="-812880">
              <a:spcBef>
                <a:spcPts val="799"/>
              </a:spcBef>
              <a:buClr>
                <a:srgbClr val="ffffff"/>
              </a:buClr>
              <a:buSzPct val="85000"/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ffff"/>
                </a:solidFill>
                <a:latin typeface="Arial"/>
              </a:rPr>
              <a:t>Putting it Together: IL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812880" indent="-812880">
              <a:spcBef>
                <a:spcPts val="799"/>
              </a:spcBef>
              <a:buClr>
                <a:srgbClr val="ffffff"/>
              </a:buClr>
              <a:buSzPct val="85000"/>
              <a:buFont typeface="Arial"/>
              <a:buAutoNum type="romanU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ffff"/>
                </a:solidFill>
                <a:latin typeface="Arial"/>
              </a:rPr>
              <a:t>Moving Forward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523880" indent="-609480">
              <a:spcBef>
                <a:spcPts val="601"/>
              </a:spcBef>
              <a:buClr>
                <a:srgbClr val="ffffff"/>
              </a:buClr>
              <a:buSzPct val="65000"/>
              <a:buFont typeface="Arial"/>
              <a:buAutoNum type="roman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ffffff"/>
                </a:solidFill>
                <a:latin typeface="Arial"/>
              </a:rPr>
              <a:t>Advanced Data-Mining Resear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523880" indent="-609480">
              <a:spcBef>
                <a:spcPts val="601"/>
              </a:spcBef>
              <a:buClr>
                <a:srgbClr val="ffffff"/>
              </a:buClr>
              <a:buSzPct val="65000"/>
              <a:buFont typeface="Arial"/>
              <a:buAutoNum type="romanU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400" spc="-1" strike="noStrike">
                <a:solidFill>
                  <a:srgbClr val="ffffff"/>
                </a:solidFill>
                <a:latin typeface="Arial"/>
              </a:rPr>
              <a:t>Statistical Relational Lear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812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5B380-C7D7-4D99-9D45-FB056EFDAADD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B38C795-9364-4F93-9087-E3A03A12EC4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7992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ffcc00"/>
                </a:solidFill>
                <a:latin typeface="Arial Black"/>
              </a:rPr>
              <a:t>Program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ffffff"/>
                </a:solidFill>
                <a:latin typeface="Arial"/>
              </a:rPr>
              <a:t>Data Mining: Intro, Classification, Regression, Multiple Models, Frequent Patterns, Methodology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PT" sz="2800" spc="-1" strike="noStrike">
                <a:solidFill>
                  <a:srgbClr val="ffffff"/>
                </a:solidFill>
                <a:latin typeface="Arial"/>
              </a:rPr>
              <a:t>Logic Programming: Computational Model, Implementation, Tabl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PT" sz="2800" spc="-1" strike="noStrike">
                <a:solidFill>
                  <a:srgbClr val="ffffff"/>
                </a:solidFill>
                <a:latin typeface="Arial"/>
              </a:rPr>
              <a:t>Inductive Logic Programming: Fundaments, Examples, Applic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PT" sz="2800" spc="-1" strike="noStrike">
                <a:solidFill>
                  <a:srgbClr val="ffffff"/>
                </a:solidFill>
                <a:latin typeface="Arial"/>
              </a:rPr>
              <a:t>Advances in Data Mining, Mining Streams, Logic and Statistical Representa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435DF-EFFF-4D8D-9598-6A1135A2FE0C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59D1EF-435C-4767-994A-9888931E04C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82908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000" spc="-1" strike="noStrike">
                <a:solidFill>
                  <a:srgbClr val="ffcc00"/>
                </a:solidFill>
                <a:latin typeface="Arial Black"/>
              </a:rPr>
              <a:t>Team</a:t>
            </a:r>
            <a:endParaRPr b="0" lang="en-US" sz="40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Ricardo Rocha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GB" sz="2400" spc="-1" strike="noStrike">
                <a:solidFill>
                  <a:srgbClr val="ffcc00"/>
                </a:solidFill>
                <a:latin typeface="Arial"/>
              </a:rPr>
              <a:t>ricroc</a:t>
            </a:r>
            <a:r>
              <a:rPr b="0" lang="en-GB" sz="2400" spc="-1" strike="noStrike" u="sng">
                <a:solidFill>
                  <a:srgbClr val="f98d43"/>
                </a:solidFill>
                <a:uFillTx/>
                <a:latin typeface="Arial"/>
                <a:hlinkClick r:id="rId2"/>
              </a:rPr>
              <a:t>@dcc.fc.up.pt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aulo Azevedo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GB" sz="2400" spc="-1" strike="noStrike" u="sng">
                <a:solidFill>
                  <a:srgbClr val="f98d43"/>
                </a:solidFill>
                <a:uFillTx/>
                <a:latin typeface="Arial"/>
                <a:hlinkClick r:id="rId4"/>
              </a:rPr>
              <a:t>pja@</a:t>
            </a:r>
            <a:r>
              <a:rPr b="0" lang="en-GB" sz="2400" spc="-1" strike="noStrike">
                <a:solidFill>
                  <a:srgbClr val="ffcc00"/>
                </a:solidFill>
                <a:latin typeface="Arial"/>
              </a:rPr>
              <a:t>di.uminho.pt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avel Brazdil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GB" sz="2400" spc="-1" strike="noStrike" u="sng">
                <a:solidFill>
                  <a:srgbClr val="f98d43"/>
                </a:solidFill>
                <a:uFillTx/>
                <a:latin typeface="Arial"/>
                <a:hlinkClick r:id="rId6"/>
              </a:rPr>
              <a:t>pbrazdil@liacc.up.pt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Rui Camacho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GB" sz="2400" spc="-1" strike="noStrike">
                <a:solidFill>
                  <a:srgbClr val="ffcc00"/>
                </a:solidFill>
                <a:latin typeface="Arial"/>
              </a:rPr>
              <a:t>jls@di.uminho.pt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Alípio Jorge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GB" sz="2400" spc="-1" strike="noStrike" u="sng">
                <a:solidFill>
                  <a:srgbClr val="f98d43"/>
                </a:solidFill>
                <a:uFillTx/>
                <a:latin typeface="Arial"/>
                <a:hlinkClick r:id="rId9"/>
              </a:rPr>
              <a:t>amjorge@</a:t>
            </a:r>
            <a:r>
              <a:rPr b="0" lang="en-GB" sz="2400" spc="-1" strike="noStrike">
                <a:solidFill>
                  <a:srgbClr val="ffcc00"/>
                </a:solidFill>
                <a:latin typeface="Arial"/>
              </a:rPr>
              <a:t>fep.up.pt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Vítor Santos Costa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en-GB" sz="2400" spc="-1" strike="noStrike">
                <a:solidFill>
                  <a:srgbClr val="ffcc00"/>
                </a:solidFill>
                <a:latin typeface="Arial"/>
              </a:rPr>
              <a:t>vsc@dcc.fc..up.pt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51B2D-5DAE-446E-83CF-3747A0FB11B4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74B143-6BCA-4738-9E97-FB79BFF730C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1T21:55:25Z</dcterms:created>
  <dc:creator>FCUP</dc:creator>
  <dc:description/>
  <dc:language>en-US</dc:language>
  <cp:lastModifiedBy>Your User Name</cp:lastModifiedBy>
  <dcterms:modified xsi:type="dcterms:W3CDTF">2007-10-08T09:22:33Z</dcterms:modified>
  <cp:revision>53</cp:revision>
  <dc:subject/>
  <dc:title>Slide 1</dc:title>
</cp:coreProperties>
</file>