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ct" ContentType="image/x-pict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0B94FB-5A08-4750-84DB-6A20A80AF52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6D814-1E34-4ECE-B450-6E7B752889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B21C1F-6F88-49A0-B764-79B1387E68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C95C5-297B-46AE-A430-600CBE78225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B6A2E9-BBF5-47A1-B77E-E6E931A78C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23964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022080" y="12949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5720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23964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022080" y="3802320"/>
            <a:ext cx="264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FA07E-552B-46C7-9054-1CCD3666F4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ECB585-55D4-408F-9613-9A33FB70D01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930D41-473E-4421-98AA-A7114814B31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765000"/>
            <a:ext cx="8229600" cy="175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077D2B-6523-46F1-87A9-F9B7B56F707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AB5D70-CB02-4C35-97E0-41F0B6339EE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023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F765A0-00AF-4EC8-9B99-0BBD87882A9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66348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94920"/>
            <a:ext cx="40158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02320"/>
            <a:ext cx="82296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C971E-E24B-4383-A66F-6C49E365445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765000"/>
            <a:ext cx="8229600" cy="37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76320" y="205920"/>
            <a:ext cx="8928000" cy="17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cc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cc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251E6B-326F-4D4E-8B8B-317DA5791AE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/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6320" y="6464160"/>
            <a:ext cx="2666880" cy="330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ftr" idx="3"/>
          </p:nvPr>
        </p:nvSpPr>
        <p:spPr>
          <a:xfrm rot="16200000">
            <a:off x="-3191040" y="3190680"/>
            <a:ext cx="6858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ct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8000" y="1699920"/>
            <a:ext cx="89280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Model-driven</a:t>
            </a:r>
            <a:br>
              <a:rPr sz="4400"/>
            </a:br>
            <a:r>
              <a:rPr b="1" lang="en-US" sz="4400" spc="-1" strike="noStrike">
                <a:solidFill>
                  <a:srgbClr val="d1350b"/>
                </a:solidFill>
                <a:latin typeface="Tahoma"/>
              </a:rPr>
              <a:t>Software Engineering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0" y="4005360"/>
            <a:ext cx="9144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Tahoma"/>
              </a:rPr>
              <a:t>João M. Fernandes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000" spc="-1" strike="noStrike">
                <a:solidFill>
                  <a:srgbClr val="ffffff"/>
                </a:solidFill>
                <a:latin typeface="Tahoma"/>
              </a:rPr>
              <a:t>Universidade do Minho – Portug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228600" y="5562720"/>
            <a:ext cx="1282680" cy="99684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108000" y="115920"/>
            <a:ext cx="892800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c00"/>
                </a:solidFill>
                <a:latin typeface="Tahoma"/>
              </a:rPr>
              <a:t>Model-driven Software Engineering - 200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5791320" y="6248520"/>
            <a:ext cx="3174840" cy="393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/>
          </p:nvPr>
        </p:nvSpPr>
        <p:spPr>
          <a:xfrm>
            <a:off x="380880" y="1219320"/>
            <a:ext cx="838224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ling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is the cost-effective use of something in place of something else for some purpose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allows us to use something that is simpler, safer or cheaper than reality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model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 represents reality for the given purpos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e model is an abstraction of reality in the sense that it cannot represent all its aspects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his allows the world to be dealt in a simplified manner, avoiding the complexity, danger and irreversibility of reality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95BF49-4278-4AA9-B24E-B73EF8B36879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82296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MDSE is the application of model-driven engineering to software engineering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t consists of systematically using models as  primary engineering artefacts to develop software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ftware engineering by nature possesses both a scientific and a technological aspec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In education, a good balance between these two aspects should always be pursued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Addressing various software modelling techniques is a good way to achieve this aim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Model-Driven Software Engineer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B68F2A-892B-43B4-9B07-AED822059597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228240" y="1294920"/>
            <a:ext cx="84582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explain the need for describing software systems with models, as a way to abstract from the system’s complexity and to reason about their properties;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learly differentiate from behavioural/dynamic and informational/structural models;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identify the expressiveness and limitations of different modelling languages and to describe the type of system views they better fit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FE14A-7E37-44BB-B565-7FB154F01BFB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/>
          </p:nvPr>
        </p:nvSpPr>
        <p:spPr>
          <a:xfrm>
            <a:off x="22860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use models for the activities associated with the development of large software system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create, analyze, validate, verify and transform sets of  models with the adequate detail for the software system under development, based on a multiple view approach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00ccff"/>
              </a:buClr>
              <a:buSzPct val="65000"/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to describe/implement model transformations for automating the software process, namely to generate final code from the model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arning outcom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EE72B-DE58-41F0-ADE9-ED17BDF45CC1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762120" y="914040"/>
            <a:ext cx="769608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</a:rPr>
              <a:t>DI, UMinh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JMF - Jo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ão M. Fernande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software engineering;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havioural modelling; software process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LSB - Luís S. Barbos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formal methods; software components; 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FC - José C. Campos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human-computer interaction; software engineer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MAC - Alcino Cunh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program calculation; functional programming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FEUP, UPort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JPF - João Pascoal Fari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requirements engineering; model-driven development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5000"/>
              </a:lnSpc>
              <a:spcBef>
                <a:spcPts val="4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ACP - Ana C. Paiva</a:t>
            </a:r>
            <a:br>
              <a:rPr sz="2800"/>
            </a:b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</a:rPr>
              <a:t>model-based testing; GUI testing; formal methods</a:t>
            </a:r>
            <a:r>
              <a:rPr b="0" lang="en-GB" sz="1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tea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7B6B30-266F-46D4-AC86-E08733C17A9B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1. Principles of MDSE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M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2. Models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4 lessons: JMF-1, LSB-2,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3. Model Quality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PF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4. Model V&amp;V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JFC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5. Model Transformation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2 lessons: JMF-1, MA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6. Model-based Testing 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2 lessons: ACP-2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7. Re-engineering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1 lesson: JFC-1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8. Case-study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2800" spc="-1" strike="noStrike">
                <a:solidFill>
                  <a:srgbClr val="ffcc00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cc00"/>
                </a:solidFill>
                <a:latin typeface="Tahoma"/>
              </a:rPr>
              <a:t>common to all lesson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Lecturing uni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E3A71C-A826-4061-B1BF-42F10EC028FF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2697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85800" y="1447560"/>
            <a:ext cx="81532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urse credited by CM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Assessment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written assignments (e.g., a research paper analysis, models for the case study) proposed on the end of each course unit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50% based on an individual survey monograph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"/>
          <p:cNvSpPr/>
          <p:nvPr/>
        </p:nvSpPr>
        <p:spPr>
          <a:xfrm>
            <a:off x="457200" y="380880"/>
            <a:ext cx="8229600" cy="63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d1350b"/>
                </a:solidFill>
                <a:latin typeface="Tahoma"/>
              </a:rPr>
              <a:t>Other fac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Principles of Model-driven Software Engineering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82434C-D72F-4666-8C0F-FF9D06FA06C4}" type="slidenum">
              <a:t>8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João M. Fernandes</cp:lastModifiedBy>
  <dcterms:modified xsi:type="dcterms:W3CDTF">2007-10-08T09:42:04Z</dcterms:modified>
  <cp:revision>68</cp:revision>
  <dc:subject/>
  <dc:title>Model Transformations with UML and CPN models</dc:title>
</cp:coreProperties>
</file>